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3DB2B-B064-4E5C-B351-958035A6E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E0287-25F4-4901-ADAD-A099C84E0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356F4-F2B0-4CDE-8EED-467F735BB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7E570-5788-4055-9254-C162BB5FB8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1A803-7143-422D-99EC-1201136B87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B95C8-6BAB-42E6-AABC-BF94681FE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82690-CF73-4AF7-8228-362AC6FA2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468C7-AA5F-4F7A-9CB1-229516A70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6F164-5AEA-40B3-BB69-1C704370D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3B016-D547-465E-AC84-C94403E72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BFE8D-72F8-4089-9071-F5FBFB1F8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6C5AD-8795-4F44-BDBB-97E2F951D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980720" y="6477120"/>
            <a:ext cx="4343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F806-52FC-41A0-8BC5-6ED324E0F06D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Stage 1</a:t>
            </a:r>
            <a:br>
              <a:rPr sz="4400"/>
            </a:b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Preparing for Research</a:t>
            </a:r>
            <a:endParaRPr b="1" lang="en-US" sz="44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6840" y="35053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 Success  @ Your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uide for Secondary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71840" y="463680"/>
            <a:ext cx="4502160" cy="5790960"/>
            <a:chOff x="4371840" y="463680"/>
            <a:chExt cx="4502160" cy="579096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71840" y="463680"/>
              <a:ext cx="4502160" cy="57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495680" y="609480"/>
              <a:ext cx="4267440" cy="5486400"/>
            </a:xfrm>
            <a:prstGeom prst="rect">
              <a:avLst/>
            </a:prstGeom>
            <a:solidFill>
              <a:srgbClr val="66ff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44C52-4C57-4AF8-8CFE-63052A1C15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76720" y="1676520"/>
            <a:ext cx="2438280" cy="1447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5880" y="167652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960" y="152280"/>
            <a:ext cx="243864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60020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BROADLY             – Generaliz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228600"/>
            <a:ext cx="243828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1676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PEOPLE, PLACES,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3280" y="3276720"/>
            <a:ext cx="2438280" cy="14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472428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NARROW 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specif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4343400"/>
            <a:ext cx="243828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581976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SYNONYMS      – Find other ways to say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48520" y="3276720"/>
            <a:ext cx="2438280" cy="14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53240" y="4748040"/>
            <a:ext cx="329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CONNE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e to other subjects, discipli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194" idx="0"/>
            <a:endCxn id="196" idx="3"/>
          </p:cNvCxnSpPr>
          <p:nvPr/>
        </p:nvCxnSpPr>
        <p:spPr>
          <a:xfrm flipH="1" flipV="1">
            <a:off x="2865240" y="875520"/>
            <a:ext cx="16308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4" idx="0"/>
            <a:endCxn id="198" idx="1"/>
          </p:cNvCxnSpPr>
          <p:nvPr/>
        </p:nvCxnSpPr>
        <p:spPr>
          <a:xfrm flipV="1">
            <a:off x="4495320" y="951840"/>
            <a:ext cx="1677240" cy="71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4" idx="1"/>
            <a:endCxn id="200" idx="0"/>
          </p:cNvCxnSpPr>
          <p:nvPr/>
        </p:nvCxnSpPr>
        <p:spPr>
          <a:xfrm flipH="1">
            <a:off x="1721880" y="2400480"/>
            <a:ext cx="154044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94" idx="3"/>
            <a:endCxn id="204" idx="0"/>
          </p:cNvCxnSpPr>
          <p:nvPr/>
        </p:nvCxnSpPr>
        <p:spPr>
          <a:xfrm>
            <a:off x="5729400" y="2400480"/>
            <a:ext cx="173880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194" idx="2"/>
            <a:endCxn id="202" idx="0"/>
          </p:cNvCxnSpPr>
          <p:nvPr/>
        </p:nvCxnSpPr>
        <p:spPr>
          <a:xfrm>
            <a:off x="4495320" y="3138120"/>
            <a:ext cx="1080" cy="12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3124080" y="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trategy 2  Guided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3B3FE-3E31-47E1-83D5-583E60EEDA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922560" y="3000240"/>
            <a:ext cx="1447920" cy="838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39920" y="320040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403360" y="1523880"/>
            <a:ext cx="4495680" cy="3733920"/>
            <a:chOff x="2403360" y="1523880"/>
            <a:chExt cx="4495680" cy="3733920"/>
          </a:xfrm>
        </p:grpSpPr>
        <p:sp>
          <p:nvSpPr>
            <p:cNvPr id="215" name=""/>
            <p:cNvSpPr/>
            <p:nvPr/>
          </p:nvSpPr>
          <p:spPr>
            <a:xfrm>
              <a:off x="2403360" y="2886120"/>
              <a:ext cx="1219320" cy="1066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80080" y="2886120"/>
              <a:ext cx="1218960" cy="1066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38480" y="4191120"/>
              <a:ext cx="1219320" cy="1066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38480" y="1523880"/>
              <a:ext cx="1219320" cy="10670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12" idx="2"/>
              <a:endCxn id="215" idx="3"/>
            </p:cNvCxnSpPr>
            <p:nvPr/>
          </p:nvCxnSpPr>
          <p:spPr>
            <a:xfrm flipH="1">
              <a:off x="3621960" y="3419280"/>
              <a:ext cx="300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"/>
            <p:cNvCxnSpPr>
              <a:stCxn id="212" idx="6"/>
              <a:endCxn id="216" idx="1"/>
            </p:cNvCxnSpPr>
            <p:nvPr/>
          </p:nvCxnSpPr>
          <p:spPr>
            <a:xfrm>
              <a:off x="5370480" y="3419280"/>
              <a:ext cx="310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>
              <a:stCxn id="212" idx="0"/>
              <a:endCxn id="218" idx="2"/>
            </p:cNvCxnSpPr>
            <p:nvPr/>
          </p:nvCxnSpPr>
          <p:spPr>
            <a:xfrm flipV="1">
              <a:off x="4646520" y="2590200"/>
              <a:ext cx="2160" cy="41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12" idx="4"/>
              <a:endCxn id="217" idx="0"/>
            </p:cNvCxnSpPr>
            <p:nvPr/>
          </p:nvCxnSpPr>
          <p:spPr>
            <a:xfrm>
              <a:off x="4646520" y="3838320"/>
              <a:ext cx="2160" cy="35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>
              <a:off x="4344480" y="182880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45920" y="320040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92480" y="320040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68520" y="449568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04920" y="1981080"/>
            <a:ext cx="2708280" cy="2667240"/>
            <a:chOff x="304920" y="1981080"/>
            <a:chExt cx="2708280" cy="2667240"/>
          </a:xfrm>
        </p:grpSpPr>
        <p:sp>
          <p:nvSpPr>
            <p:cNvPr id="228" name=""/>
            <p:cNvSpPr/>
            <p:nvPr/>
          </p:nvSpPr>
          <p:spPr>
            <a:xfrm>
              <a:off x="304920" y="1981080"/>
              <a:ext cx="1752840" cy="7621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4920" y="3886200"/>
              <a:ext cx="1752840" cy="7621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0" name=""/>
            <p:cNvCxnSpPr>
              <a:stCxn id="215" idx="0"/>
              <a:endCxn id="228" idx="3"/>
            </p:cNvCxnSpPr>
            <p:nvPr/>
          </p:nvCxnSpPr>
          <p:spPr>
            <a:xfrm flipH="1" flipV="1">
              <a:off x="2057400" y="2361960"/>
              <a:ext cx="956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1" name=""/>
            <p:cNvCxnSpPr>
              <a:stCxn id="215" idx="2"/>
              <a:endCxn id="229" idx="3"/>
            </p:cNvCxnSpPr>
            <p:nvPr/>
          </p:nvCxnSpPr>
          <p:spPr>
            <a:xfrm flipH="1">
              <a:off x="2057400" y="3952440"/>
              <a:ext cx="956160" cy="31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2" name=""/>
            <p:cNvSpPr/>
            <p:nvPr/>
          </p:nvSpPr>
          <p:spPr>
            <a:xfrm>
              <a:off x="457560" y="1981080"/>
              <a:ext cx="1447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ace Debr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4240" y="4038480"/>
              <a:ext cx="131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ap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286000" y="4723920"/>
            <a:ext cx="4647960" cy="1600560"/>
            <a:chOff x="2286000" y="4723920"/>
            <a:chExt cx="4647960" cy="1600560"/>
          </a:xfrm>
        </p:grpSpPr>
        <p:sp>
          <p:nvSpPr>
            <p:cNvPr id="235" name=""/>
            <p:cNvSpPr/>
            <p:nvPr/>
          </p:nvSpPr>
          <p:spPr>
            <a:xfrm>
              <a:off x="2286000" y="5562720"/>
              <a:ext cx="1752480" cy="7617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81480" y="5562720"/>
              <a:ext cx="1752480" cy="7617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17" idx="1"/>
            </p:cNvCxnSpPr>
            <p:nvPr/>
          </p:nvCxnSpPr>
          <p:spPr>
            <a:xfrm flipH="1">
              <a:off x="3123720" y="4723920"/>
              <a:ext cx="915120" cy="83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17" idx="3"/>
              <a:endCxn id="236" idx="0"/>
            </p:cNvCxnSpPr>
            <p:nvPr/>
          </p:nvCxnSpPr>
          <p:spPr>
            <a:xfrm>
              <a:off x="5257800" y="4723920"/>
              <a:ext cx="800640" cy="83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9" name=""/>
            <p:cNvSpPr/>
            <p:nvPr/>
          </p:nvSpPr>
          <p:spPr>
            <a:xfrm>
              <a:off x="2392200" y="574524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stici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10080" y="5608800"/>
              <a:ext cx="121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xic Was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286000" y="304920"/>
            <a:ext cx="4647960" cy="1752480"/>
            <a:chOff x="2286000" y="304920"/>
            <a:chExt cx="4647960" cy="1752480"/>
          </a:xfrm>
        </p:grpSpPr>
        <p:grpSp>
          <p:nvGrpSpPr>
            <p:cNvPr id="242" name=""/>
            <p:cNvGrpSpPr/>
            <p:nvPr/>
          </p:nvGrpSpPr>
          <p:grpSpPr>
            <a:xfrm>
              <a:off x="2286000" y="304920"/>
              <a:ext cx="1752480" cy="1752480"/>
              <a:chOff x="2286000" y="304920"/>
              <a:chExt cx="1752480" cy="1752480"/>
            </a:xfrm>
          </p:grpSpPr>
          <p:sp>
            <p:nvSpPr>
              <p:cNvPr id="243" name=""/>
              <p:cNvSpPr/>
              <p:nvPr/>
            </p:nvSpPr>
            <p:spPr>
              <a:xfrm>
                <a:off x="2286000" y="304920"/>
                <a:ext cx="175248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4" name=""/>
              <p:cNvCxnSpPr>
                <a:stCxn id="218" idx="1"/>
                <a:endCxn id="243" idx="2"/>
              </p:cNvCxnSpPr>
              <p:nvPr/>
            </p:nvCxnSpPr>
            <p:spPr>
              <a:xfrm flipH="1" flipV="1">
                <a:off x="3161880" y="1066320"/>
                <a:ext cx="876960" cy="9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5" name=""/>
              <p:cNvSpPr/>
              <p:nvPr/>
            </p:nvSpPr>
            <p:spPr>
              <a:xfrm>
                <a:off x="2514600" y="334800"/>
                <a:ext cx="1371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ehicle Exhaus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5181480" y="304920"/>
              <a:ext cx="1752480" cy="1752480"/>
              <a:chOff x="5181480" y="304920"/>
              <a:chExt cx="1752480" cy="1752480"/>
            </a:xfrm>
          </p:grpSpPr>
          <p:sp>
            <p:nvSpPr>
              <p:cNvPr id="247" name=""/>
              <p:cNvSpPr/>
              <p:nvPr/>
            </p:nvSpPr>
            <p:spPr>
              <a:xfrm>
                <a:off x="5181480" y="304920"/>
                <a:ext cx="1752480" cy="761760"/>
              </a:xfrm>
              <a:prstGeom prst="roundRect">
                <a:avLst>
                  <a:gd name="adj" fmla="val 16667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8" name=""/>
              <p:cNvCxnSpPr>
                <a:stCxn id="218" idx="3"/>
                <a:endCxn id="247" idx="2"/>
              </p:cNvCxnSpPr>
              <p:nvPr/>
            </p:nvCxnSpPr>
            <p:spPr>
              <a:xfrm flipV="1">
                <a:off x="5257800" y="1066320"/>
                <a:ext cx="800640" cy="9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9" name=""/>
              <p:cNvSpPr/>
              <p:nvPr/>
            </p:nvSpPr>
            <p:spPr>
              <a:xfrm>
                <a:off x="5257800" y="380880"/>
                <a:ext cx="1523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ndustrial Emiss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6289200" y="1981080"/>
            <a:ext cx="2778480" cy="2667240"/>
            <a:chOff x="6289200" y="1981080"/>
            <a:chExt cx="2778480" cy="2667240"/>
          </a:xfrm>
        </p:grpSpPr>
        <p:grpSp>
          <p:nvGrpSpPr>
            <p:cNvPr id="251" name=""/>
            <p:cNvGrpSpPr/>
            <p:nvPr/>
          </p:nvGrpSpPr>
          <p:grpSpPr>
            <a:xfrm>
              <a:off x="6289200" y="1981080"/>
              <a:ext cx="2778480" cy="904680"/>
              <a:chOff x="6289200" y="1981080"/>
              <a:chExt cx="2778480" cy="904680"/>
            </a:xfrm>
          </p:grpSpPr>
          <p:sp>
            <p:nvSpPr>
              <p:cNvPr id="252" name=""/>
              <p:cNvSpPr/>
              <p:nvPr/>
            </p:nvSpPr>
            <p:spPr>
              <a:xfrm>
                <a:off x="7315200" y="1981080"/>
                <a:ext cx="1752480" cy="762120"/>
              </a:xfrm>
              <a:prstGeom prst="roundRect">
                <a:avLst>
                  <a:gd name="adj" fmla="val 16667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3" name=""/>
              <p:cNvCxnSpPr>
                <a:stCxn id="216" idx="0"/>
                <a:endCxn id="252" idx="1"/>
              </p:cNvCxnSpPr>
              <p:nvPr/>
            </p:nvCxnSpPr>
            <p:spPr>
              <a:xfrm flipV="1">
                <a:off x="6289200" y="2361960"/>
                <a:ext cx="1026360" cy="524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4" name=""/>
              <p:cNvSpPr/>
              <p:nvPr/>
            </p:nvSpPr>
            <p:spPr>
              <a:xfrm>
                <a:off x="7467480" y="219384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il Spil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6289200" y="3886200"/>
              <a:ext cx="2778480" cy="762120"/>
              <a:chOff x="6289200" y="3886200"/>
              <a:chExt cx="2778480" cy="762120"/>
            </a:xfrm>
          </p:grpSpPr>
          <p:sp>
            <p:nvSpPr>
              <p:cNvPr id="256" name=""/>
              <p:cNvSpPr/>
              <p:nvPr/>
            </p:nvSpPr>
            <p:spPr>
              <a:xfrm>
                <a:off x="7315200" y="3886200"/>
                <a:ext cx="1752480" cy="762120"/>
              </a:xfrm>
              <a:prstGeom prst="roundRect">
                <a:avLst>
                  <a:gd name="adj" fmla="val 16667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7" name=""/>
              <p:cNvCxnSpPr>
                <a:stCxn id="216" idx="2"/>
                <a:endCxn id="256" idx="1"/>
              </p:cNvCxnSpPr>
              <p:nvPr/>
            </p:nvCxnSpPr>
            <p:spPr>
              <a:xfrm>
                <a:off x="6289200" y="3952440"/>
                <a:ext cx="1026360" cy="315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8" name=""/>
              <p:cNvSpPr/>
              <p:nvPr/>
            </p:nvSpPr>
            <p:spPr>
              <a:xfrm>
                <a:off x="7467480" y="40989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wag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9" name=""/>
          <p:cNvSpPr/>
          <p:nvPr/>
        </p:nvSpPr>
        <p:spPr>
          <a:xfrm>
            <a:off x="-76320" y="0"/>
            <a:ext cx="253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trategy 3 Classifying Ext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73FAB-BBC3-492B-A5DF-D4747DADC5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22560" y="3152880"/>
            <a:ext cx="1447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457200"/>
            <a:ext cx="175248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457200"/>
            <a:ext cx="175284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5715000"/>
            <a:ext cx="175248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81480" y="5715000"/>
            <a:ext cx="175284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15200" y="2133720"/>
            <a:ext cx="175248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15200" y="4038480"/>
            <a:ext cx="175248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2133720"/>
            <a:ext cx="175248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4038480"/>
            <a:ext cx="175248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70" idx="1"/>
            <a:endCxn id="261" idx="2"/>
          </p:cNvCxnSpPr>
          <p:nvPr/>
        </p:nvCxnSpPr>
        <p:spPr>
          <a:xfrm flipH="1" flipV="1">
            <a:off x="3161880" y="1218600"/>
            <a:ext cx="87696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2403360" y="3038400"/>
            <a:ext cx="12193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80080" y="3038400"/>
            <a:ext cx="12193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38480" y="4343400"/>
            <a:ext cx="12193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38480" y="1676520"/>
            <a:ext cx="12193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0" idx="3"/>
            <a:endCxn id="262" idx="2"/>
          </p:cNvCxnSpPr>
          <p:nvPr/>
        </p:nvCxnSpPr>
        <p:spPr>
          <a:xfrm flipV="1">
            <a:off x="5257440" y="1218600"/>
            <a:ext cx="8010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60" idx="2"/>
            <a:endCxn id="271" idx="3"/>
          </p:cNvCxnSpPr>
          <p:nvPr/>
        </p:nvCxnSpPr>
        <p:spPr>
          <a:xfrm flipH="1">
            <a:off x="3621960" y="3571560"/>
            <a:ext cx="300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60" idx="6"/>
            <a:endCxn id="272" idx="1"/>
          </p:cNvCxnSpPr>
          <p:nvPr/>
        </p:nvCxnSpPr>
        <p:spPr>
          <a:xfrm>
            <a:off x="5370480" y="3571560"/>
            <a:ext cx="31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60" idx="0"/>
            <a:endCxn id="270" idx="2"/>
          </p:cNvCxnSpPr>
          <p:nvPr/>
        </p:nvCxnSpPr>
        <p:spPr>
          <a:xfrm flipV="1">
            <a:off x="4646160" y="2742840"/>
            <a:ext cx="252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0" idx="4"/>
            <a:endCxn id="273" idx="0"/>
          </p:cNvCxnSpPr>
          <p:nvPr/>
        </p:nvCxnSpPr>
        <p:spPr>
          <a:xfrm>
            <a:off x="4646160" y="3990600"/>
            <a:ext cx="252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1" idx="0"/>
            <a:endCxn id="267" idx="3"/>
          </p:cNvCxnSpPr>
          <p:nvPr/>
        </p:nvCxnSpPr>
        <p:spPr>
          <a:xfrm flipH="1" flipV="1">
            <a:off x="2056680" y="2514240"/>
            <a:ext cx="9565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2"/>
            <a:endCxn id="268" idx="3"/>
          </p:cNvCxnSpPr>
          <p:nvPr/>
        </p:nvCxnSpPr>
        <p:spPr>
          <a:xfrm flipH="1">
            <a:off x="2056680" y="4105080"/>
            <a:ext cx="956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3" idx="1"/>
          </p:cNvCxnSpPr>
          <p:nvPr/>
        </p:nvCxnSpPr>
        <p:spPr>
          <a:xfrm flipH="1">
            <a:off x="3123720" y="4876920"/>
            <a:ext cx="9151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3" idx="3"/>
            <a:endCxn id="264" idx="0"/>
          </p:cNvCxnSpPr>
          <p:nvPr/>
        </p:nvCxnSpPr>
        <p:spPr>
          <a:xfrm>
            <a:off x="5257440" y="4876920"/>
            <a:ext cx="8010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2" idx="0"/>
            <a:endCxn id="265" idx="1"/>
          </p:cNvCxnSpPr>
          <p:nvPr/>
        </p:nvCxnSpPr>
        <p:spPr>
          <a:xfrm flipV="1">
            <a:off x="6289200" y="2514240"/>
            <a:ext cx="102636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2" idx="2"/>
            <a:endCxn id="266" idx="1"/>
          </p:cNvCxnSpPr>
          <p:nvPr/>
        </p:nvCxnSpPr>
        <p:spPr>
          <a:xfrm>
            <a:off x="6289200" y="4105080"/>
            <a:ext cx="102636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4252680" y="317196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253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trategy 3 Classifying Ext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8A180-C489-4E30-ABFB-743343CA36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Banks of Keywords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List: synonyms and related 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when searching library catalogues, table of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contents, indexes, databases, and websi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80880" y="2514600"/>
            <a:ext cx="8000640" cy="3809520"/>
            <a:chOff x="380880" y="2514600"/>
            <a:chExt cx="8000640" cy="3809520"/>
          </a:xfrm>
        </p:grpSpPr>
        <p:grpSp>
          <p:nvGrpSpPr>
            <p:cNvPr id="290" name=""/>
            <p:cNvGrpSpPr/>
            <p:nvPr/>
          </p:nvGrpSpPr>
          <p:grpSpPr>
            <a:xfrm>
              <a:off x="385920" y="2519280"/>
              <a:ext cx="7989480" cy="3798720"/>
              <a:chOff x="385920" y="2519280"/>
              <a:chExt cx="7989480" cy="379872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385920" y="2519280"/>
                <a:ext cx="1896120" cy="683280"/>
                <a:chOff x="385920" y="2519280"/>
                <a:chExt cx="1896120" cy="6832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85920" y="2519280"/>
                  <a:ext cx="1896120" cy="683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3" name=""/>
                <p:cNvGrpSpPr/>
                <p:nvPr/>
              </p:nvGrpSpPr>
              <p:grpSpPr>
                <a:xfrm>
                  <a:off x="385920" y="2519280"/>
                  <a:ext cx="1895760" cy="682920"/>
                  <a:chOff x="385920" y="2519280"/>
                  <a:chExt cx="1895760" cy="68292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>
                    <a:off x="463320" y="2519280"/>
                    <a:ext cx="1741320" cy="682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Topi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385920" y="2519280"/>
                    <a:ext cx="189576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6" name=""/>
              <p:cNvGrpSpPr/>
              <p:nvPr/>
            </p:nvGrpSpPr>
            <p:grpSpPr>
              <a:xfrm>
                <a:off x="2282400" y="2519280"/>
                <a:ext cx="1973520" cy="683280"/>
                <a:chOff x="2282400" y="2519280"/>
                <a:chExt cx="1973520" cy="6832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282400" y="2519280"/>
                  <a:ext cx="1973520" cy="683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8" name=""/>
                <p:cNvGrpSpPr/>
                <p:nvPr/>
              </p:nvGrpSpPr>
              <p:grpSpPr>
                <a:xfrm>
                  <a:off x="2282400" y="2519280"/>
                  <a:ext cx="1973160" cy="682920"/>
                  <a:chOff x="2282400" y="2519280"/>
                  <a:chExt cx="1973160" cy="68292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>
                    <a:off x="2359800" y="2519280"/>
                    <a:ext cx="1818720" cy="682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Keyword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282400" y="2519280"/>
                    <a:ext cx="197316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1" name=""/>
              <p:cNvGrpSpPr/>
              <p:nvPr/>
            </p:nvGrpSpPr>
            <p:grpSpPr>
              <a:xfrm>
                <a:off x="4256640" y="2519280"/>
                <a:ext cx="423720" cy="683280"/>
                <a:chOff x="4256640" y="2519280"/>
                <a:chExt cx="423720" cy="6832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333680" y="2519280"/>
                  <a:ext cx="268920" cy="68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256640" y="2519280"/>
                  <a:ext cx="423720" cy="68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4681080" y="2519280"/>
                <a:ext cx="1996920" cy="683280"/>
                <a:chOff x="4681080" y="2519280"/>
                <a:chExt cx="1996920" cy="6832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4681080" y="2519280"/>
                  <a:ext cx="1996920" cy="683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6" name=""/>
                <p:cNvGrpSpPr/>
                <p:nvPr/>
              </p:nvGrpSpPr>
              <p:grpSpPr>
                <a:xfrm>
                  <a:off x="4681080" y="2519280"/>
                  <a:ext cx="1996560" cy="682920"/>
                  <a:chOff x="4681080" y="2519280"/>
                  <a:chExt cx="1996560" cy="68292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4757760" y="2519280"/>
                    <a:ext cx="1842120" cy="682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38160" bIns="381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Arial"/>
                        <a:ea typeface="Times New Roman"/>
                      </a:rPr>
                      <a:t>Topic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4681080" y="2519280"/>
                    <a:ext cx="199656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9" name=""/>
              <p:cNvGrpSpPr/>
              <p:nvPr/>
            </p:nvGrpSpPr>
            <p:grpSpPr>
              <a:xfrm>
                <a:off x="6678720" y="2519280"/>
                <a:ext cx="1696680" cy="683280"/>
                <a:chOff x="6678720" y="2519280"/>
                <a:chExt cx="1696680" cy="6832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6678720" y="2519280"/>
                  <a:ext cx="1696680" cy="683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1" name=""/>
                <p:cNvGrpSpPr/>
                <p:nvPr/>
              </p:nvGrpSpPr>
              <p:grpSpPr>
                <a:xfrm>
                  <a:off x="6678720" y="2519280"/>
                  <a:ext cx="1696320" cy="682920"/>
                  <a:chOff x="6678720" y="2519280"/>
                  <a:chExt cx="1696320" cy="68292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6756120" y="2519280"/>
                    <a:ext cx="1541520" cy="6829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Keyword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6678720" y="2519280"/>
                    <a:ext cx="1696320" cy="682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4" name=""/>
              <p:cNvGrpSpPr/>
              <p:nvPr/>
            </p:nvGrpSpPr>
            <p:grpSpPr>
              <a:xfrm>
                <a:off x="385920" y="3202920"/>
                <a:ext cx="1896120" cy="1043280"/>
                <a:chOff x="385920" y="3202920"/>
                <a:chExt cx="1896120" cy="10432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463320" y="3202920"/>
                  <a:ext cx="1741680" cy="104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8160" bIns="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ollu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5920" y="3202920"/>
                  <a:ext cx="1896120" cy="104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2282400" y="3202920"/>
                <a:ext cx="1973520" cy="1043280"/>
                <a:chOff x="2282400" y="3202920"/>
                <a:chExt cx="1973520" cy="10432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2359800" y="3202920"/>
                  <a:ext cx="1819080" cy="104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llution, oil spill, pesticid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82400" y="3202920"/>
                  <a:ext cx="1973520" cy="104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4256640" y="3202920"/>
                <a:ext cx="423720" cy="1043280"/>
                <a:chOff x="4256640" y="3202920"/>
                <a:chExt cx="423720" cy="10432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4333680" y="3202920"/>
                  <a:ext cx="268920" cy="104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256640" y="3202920"/>
                  <a:ext cx="423720" cy="104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4681080" y="3202920"/>
                <a:ext cx="1996920" cy="1043280"/>
                <a:chOff x="4681080" y="3202920"/>
                <a:chExt cx="1996920" cy="10432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4758120" y="3202920"/>
                  <a:ext cx="1842480" cy="104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681080" y="3202920"/>
                  <a:ext cx="1996920" cy="104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678720" y="3202920"/>
                <a:ext cx="1696680" cy="1043280"/>
                <a:chOff x="6678720" y="3202920"/>
                <a:chExt cx="1696680" cy="10432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756120" y="3202920"/>
                  <a:ext cx="1541880" cy="104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78720" y="3202920"/>
                  <a:ext cx="1696680" cy="104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385920" y="4246560"/>
                <a:ext cx="1896120" cy="1043280"/>
                <a:chOff x="385920" y="4246560"/>
                <a:chExt cx="1896120" cy="10432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63320" y="4246560"/>
                  <a:ext cx="1741680" cy="104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8160" bIns="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mmigra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85920" y="4246560"/>
                  <a:ext cx="1896120" cy="104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2282400" y="4246560"/>
                <a:ext cx="1973520" cy="1043280"/>
                <a:chOff x="2282400" y="4246560"/>
                <a:chExt cx="1973520" cy="10432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2359800" y="4246560"/>
                  <a:ext cx="1819080" cy="104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mmigration, citizenship, refuge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282400" y="4246560"/>
                  <a:ext cx="1973520" cy="104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4256640" y="4246560"/>
                <a:ext cx="423720" cy="1043280"/>
                <a:chOff x="4256640" y="4246560"/>
                <a:chExt cx="423720" cy="10432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4333680" y="4246560"/>
                  <a:ext cx="268920" cy="104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256640" y="4246560"/>
                  <a:ext cx="423720" cy="104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4681080" y="4246560"/>
                <a:ext cx="1996920" cy="1043280"/>
                <a:chOff x="4681080" y="4246560"/>
                <a:chExt cx="1996920" cy="10432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4758120" y="4246560"/>
                  <a:ext cx="1842480" cy="104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681080" y="4246560"/>
                  <a:ext cx="1996920" cy="104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6678720" y="4246560"/>
                <a:ext cx="1696680" cy="1043280"/>
                <a:chOff x="6678720" y="4246560"/>
                <a:chExt cx="1696680" cy="10432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6756120" y="4246560"/>
                  <a:ext cx="1541880" cy="104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78720" y="4246560"/>
                  <a:ext cx="1696680" cy="1043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385920" y="5290200"/>
                <a:ext cx="1896120" cy="1027800"/>
                <a:chOff x="385920" y="5290200"/>
                <a:chExt cx="1896120" cy="102780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463320" y="5290200"/>
                  <a:ext cx="1741680" cy="102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38160" bIns="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Healthy liv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85920" y="5290200"/>
                  <a:ext cx="1896120" cy="102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2282400" y="5290200"/>
                <a:ext cx="1973520" cy="1027800"/>
                <a:chOff x="2282400" y="5290200"/>
                <a:chExt cx="1973520" cy="102780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2359800" y="5290200"/>
                  <a:ext cx="1819080" cy="102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moking, “mind and body”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282400" y="5290200"/>
                  <a:ext cx="1973520" cy="102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4256640" y="5290200"/>
                <a:ext cx="423720" cy="1027800"/>
                <a:chOff x="4256640" y="5290200"/>
                <a:chExt cx="423720" cy="102780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4333680" y="5290200"/>
                  <a:ext cx="268920" cy="102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256640" y="5290200"/>
                  <a:ext cx="423720" cy="102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4681080" y="5290200"/>
                <a:ext cx="1996920" cy="1027800"/>
                <a:chOff x="4681080" y="5290200"/>
                <a:chExt cx="1996920" cy="102780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4758120" y="5290200"/>
                  <a:ext cx="1842480" cy="102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681080" y="5290200"/>
                  <a:ext cx="1996920" cy="102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6678720" y="5290200"/>
                <a:ext cx="1696680" cy="1027800"/>
                <a:chOff x="6678720" y="5290200"/>
                <a:chExt cx="1696680" cy="10278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6756120" y="5290200"/>
                  <a:ext cx="1541880" cy="102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78720" y="5290200"/>
                  <a:ext cx="1696680" cy="102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9" name=""/>
            <p:cNvSpPr/>
            <p:nvPr/>
          </p:nvSpPr>
          <p:spPr>
            <a:xfrm>
              <a:off x="380880" y="2514600"/>
              <a:ext cx="8000640" cy="3809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93D34-9D8D-4E67-A718-2EB38D71DF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K-N-R Chart: Identifying Your Information Needs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1447920"/>
            <a:ext cx="2590920" cy="2590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48320" y="1447920"/>
            <a:ext cx="2590560" cy="2590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find 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8120" y="3886200"/>
            <a:ext cx="2590560" cy="2590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I n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81280" y="2895480"/>
            <a:ext cx="1447920" cy="14479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3E0DF-6255-43A5-912C-CB9C4C26E5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What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Arial"/>
              </a:rPr>
              <a:t>R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ESOURCES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o I need?</a:t>
            </a:r>
            <a:endParaRPr b="1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67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ype of Information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ts or graph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t 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depth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 (e.g., geographical, historic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top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pectives on an iss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sources (e.g., diaries, lett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 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le onlin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s and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7960" y="990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Most Appropriate Resource(s)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lmanacs and yearboo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tla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udio sources (e.g., CDs and tap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mpanions and handboo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tabases (e.g., EBS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cyclopedias (e.g., print or on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overnment si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ternet search direc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ternet search engi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fiction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eriodicals (e.g., journals, magazines, and newspaper articles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chool Library Web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Vid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E5603-411F-4682-99B0-F01C5F84CF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Developing Quality Questions</a:t>
            </a:r>
            <a:endParaRPr b="1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95480" y="3276720"/>
            <a:ext cx="2743200" cy="685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173240" y="4114800"/>
            <a:ext cx="1646280" cy="2055960"/>
            <a:chOff x="1173240" y="4114800"/>
            <a:chExt cx="1646280" cy="2055960"/>
          </a:xfrm>
        </p:grpSpPr>
        <p:grpSp>
          <p:nvGrpSpPr>
            <p:cNvPr id="371" name=""/>
            <p:cNvGrpSpPr/>
            <p:nvPr/>
          </p:nvGrpSpPr>
          <p:grpSpPr>
            <a:xfrm>
              <a:off x="1173240" y="4114800"/>
              <a:ext cx="1646280" cy="1600200"/>
              <a:chOff x="1173240" y="4114800"/>
              <a:chExt cx="1646280" cy="1600200"/>
            </a:xfrm>
          </p:grpSpPr>
          <p:sp>
            <p:nvSpPr>
              <p:cNvPr id="372" name=""/>
              <p:cNvSpPr/>
              <p:nvPr/>
            </p:nvSpPr>
            <p:spPr>
              <a:xfrm>
                <a:off x="1173240" y="4114800"/>
                <a:ext cx="1646280" cy="1600200"/>
              </a:xfrm>
              <a:custGeom>
                <a:avLst/>
                <a:gdLst/>
                <a:ahLst/>
                <a:rect l="l" t="t" r="r" b="b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263600" y="4179600"/>
                <a:ext cx="1465560" cy="111456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797120" y="5378400"/>
                <a:ext cx="473040" cy="252360"/>
              </a:xfrm>
              <a:custGeom>
                <a:avLst/>
                <a:gdLst/>
                <a:ahLst/>
                <a:rect l="l" t="t" r="r" b="b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1325520" y="5567400"/>
              <a:ext cx="1371600" cy="60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944640" y="1752480"/>
            <a:ext cx="1646280" cy="2055960"/>
            <a:chOff x="944640" y="1752480"/>
            <a:chExt cx="1646280" cy="2055960"/>
          </a:xfrm>
        </p:grpSpPr>
        <p:grpSp>
          <p:nvGrpSpPr>
            <p:cNvPr id="377" name=""/>
            <p:cNvGrpSpPr/>
            <p:nvPr/>
          </p:nvGrpSpPr>
          <p:grpSpPr>
            <a:xfrm>
              <a:off x="944640" y="1752480"/>
              <a:ext cx="1646280" cy="1600200"/>
              <a:chOff x="944640" y="1752480"/>
              <a:chExt cx="1646280" cy="1600200"/>
            </a:xfrm>
          </p:grpSpPr>
          <p:sp>
            <p:nvSpPr>
              <p:cNvPr id="378" name=""/>
              <p:cNvSpPr/>
              <p:nvPr/>
            </p:nvSpPr>
            <p:spPr>
              <a:xfrm>
                <a:off x="944640" y="1752480"/>
                <a:ext cx="1646280" cy="1600200"/>
              </a:xfrm>
              <a:custGeom>
                <a:avLst/>
                <a:gdLst/>
                <a:ahLst/>
                <a:rect l="l" t="t" r="r" b="b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035360" y="1817280"/>
                <a:ext cx="1465200" cy="111456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568520" y="3016080"/>
                <a:ext cx="473040" cy="252360"/>
              </a:xfrm>
              <a:custGeom>
                <a:avLst/>
                <a:gdLst/>
                <a:ahLst/>
                <a:rect l="l" t="t" r="r" b="b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1097280" y="3205080"/>
              <a:ext cx="1371600" cy="60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O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505320" y="1143000"/>
            <a:ext cx="1644840" cy="2055960"/>
            <a:chOff x="3505320" y="1143000"/>
            <a:chExt cx="1644840" cy="2055960"/>
          </a:xfrm>
        </p:grpSpPr>
        <p:grpSp>
          <p:nvGrpSpPr>
            <p:cNvPr id="383" name=""/>
            <p:cNvGrpSpPr/>
            <p:nvPr/>
          </p:nvGrpSpPr>
          <p:grpSpPr>
            <a:xfrm>
              <a:off x="3505320" y="1143000"/>
              <a:ext cx="1644840" cy="1599480"/>
              <a:chOff x="3505320" y="1143000"/>
              <a:chExt cx="1644840" cy="1599480"/>
            </a:xfrm>
          </p:grpSpPr>
          <p:sp>
            <p:nvSpPr>
              <p:cNvPr id="384" name=""/>
              <p:cNvSpPr/>
              <p:nvPr/>
            </p:nvSpPr>
            <p:spPr>
              <a:xfrm>
                <a:off x="3505320" y="1143000"/>
                <a:ext cx="1644840" cy="1599480"/>
              </a:xfrm>
              <a:custGeom>
                <a:avLst/>
                <a:gdLst/>
                <a:ahLst/>
                <a:rect l="l" t="t" r="r" b="b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595320" y="1208520"/>
                <a:ext cx="1464120" cy="111240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00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128480" y="2406240"/>
                <a:ext cx="473040" cy="252360"/>
              </a:xfrm>
              <a:custGeom>
                <a:avLst/>
                <a:gdLst/>
                <a:ahLst/>
                <a:rect l="l" t="t" r="r" b="b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3733920" y="2595600"/>
              <a:ext cx="1371600" cy="60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049800" y="1752480"/>
            <a:ext cx="1646280" cy="2050920"/>
            <a:chOff x="6049800" y="1752480"/>
            <a:chExt cx="1646280" cy="2050920"/>
          </a:xfrm>
        </p:grpSpPr>
        <p:grpSp>
          <p:nvGrpSpPr>
            <p:cNvPr id="389" name=""/>
            <p:cNvGrpSpPr/>
            <p:nvPr/>
          </p:nvGrpSpPr>
          <p:grpSpPr>
            <a:xfrm>
              <a:off x="6049800" y="1752480"/>
              <a:ext cx="1646280" cy="1600200"/>
              <a:chOff x="6049800" y="1752480"/>
              <a:chExt cx="1646280" cy="1600200"/>
            </a:xfrm>
          </p:grpSpPr>
          <p:sp>
            <p:nvSpPr>
              <p:cNvPr id="390" name=""/>
              <p:cNvSpPr/>
              <p:nvPr/>
            </p:nvSpPr>
            <p:spPr>
              <a:xfrm>
                <a:off x="6049800" y="1752480"/>
                <a:ext cx="1646280" cy="1600200"/>
              </a:xfrm>
              <a:custGeom>
                <a:avLst/>
                <a:gdLst/>
                <a:ahLst/>
                <a:rect l="l" t="t" r="r" b="b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140520" y="1817280"/>
                <a:ext cx="1465200" cy="111456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673680" y="3016080"/>
                <a:ext cx="473040" cy="252360"/>
              </a:xfrm>
              <a:custGeom>
                <a:avLst/>
                <a:gdLst/>
                <a:ahLst/>
                <a:rect l="l" t="t" r="r" b="b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6095880" y="3200040"/>
              <a:ext cx="1600200" cy="60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715000" y="4114800"/>
            <a:ext cx="1981080" cy="2051280"/>
            <a:chOff x="5715000" y="4114800"/>
            <a:chExt cx="1981080" cy="2051280"/>
          </a:xfrm>
        </p:grpSpPr>
        <p:grpSp>
          <p:nvGrpSpPr>
            <p:cNvPr id="395" name=""/>
            <p:cNvGrpSpPr/>
            <p:nvPr/>
          </p:nvGrpSpPr>
          <p:grpSpPr>
            <a:xfrm>
              <a:off x="5867280" y="4114800"/>
              <a:ext cx="1645920" cy="1600200"/>
              <a:chOff x="5867280" y="4114800"/>
              <a:chExt cx="1645920" cy="1600200"/>
            </a:xfrm>
          </p:grpSpPr>
          <p:sp>
            <p:nvSpPr>
              <p:cNvPr id="396" name=""/>
              <p:cNvSpPr/>
              <p:nvPr/>
            </p:nvSpPr>
            <p:spPr>
              <a:xfrm>
                <a:off x="5867280" y="4114800"/>
                <a:ext cx="1645920" cy="1600200"/>
              </a:xfrm>
              <a:custGeom>
                <a:avLst/>
                <a:gdLst/>
                <a:ahLst/>
                <a:rect l="l" t="t" r="r" b="b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957280" y="4179600"/>
                <a:ext cx="1464840" cy="111456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90800" y="5378400"/>
                <a:ext cx="472680" cy="252360"/>
              </a:xfrm>
              <a:custGeom>
                <a:avLst/>
                <a:gdLst/>
                <a:ahLst/>
                <a:rect l="l" t="t" r="r" b="b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5715000" y="5562720"/>
              <a:ext cx="1981080" cy="60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3505320" y="4267080"/>
            <a:ext cx="1676160" cy="2051280"/>
            <a:chOff x="3505320" y="4267080"/>
            <a:chExt cx="1676160" cy="2051280"/>
          </a:xfrm>
        </p:grpSpPr>
        <p:grpSp>
          <p:nvGrpSpPr>
            <p:cNvPr id="401" name=""/>
            <p:cNvGrpSpPr/>
            <p:nvPr/>
          </p:nvGrpSpPr>
          <p:grpSpPr>
            <a:xfrm>
              <a:off x="3505320" y="4267080"/>
              <a:ext cx="1646280" cy="1600200"/>
              <a:chOff x="3505320" y="4267080"/>
              <a:chExt cx="1646280" cy="1600200"/>
            </a:xfrm>
          </p:grpSpPr>
          <p:sp>
            <p:nvSpPr>
              <p:cNvPr id="402" name=""/>
              <p:cNvSpPr/>
              <p:nvPr/>
            </p:nvSpPr>
            <p:spPr>
              <a:xfrm>
                <a:off x="3505320" y="4267080"/>
                <a:ext cx="1646280" cy="1600200"/>
              </a:xfrm>
              <a:custGeom>
                <a:avLst/>
                <a:gdLst/>
                <a:ahLst/>
                <a:rect l="l" t="t" r="r" b="b"/>
                <a:pathLst>
                  <a:path w="439" h="683">
                    <a:moveTo>
                      <a:pt x="150" y="185"/>
                    </a:moveTo>
                    <a:lnTo>
                      <a:pt x="194" y="138"/>
                    </a:lnTo>
                    <a:lnTo>
                      <a:pt x="272" y="167"/>
                    </a:lnTo>
                    <a:lnTo>
                      <a:pt x="265" y="244"/>
                    </a:lnTo>
                    <a:lnTo>
                      <a:pt x="171" y="304"/>
                    </a:lnTo>
                    <a:lnTo>
                      <a:pt x="153" y="474"/>
                    </a:lnTo>
                    <a:lnTo>
                      <a:pt x="171" y="527"/>
                    </a:lnTo>
                    <a:lnTo>
                      <a:pt x="140" y="585"/>
                    </a:lnTo>
                    <a:lnTo>
                      <a:pt x="147" y="645"/>
                    </a:lnTo>
                    <a:lnTo>
                      <a:pt x="213" y="683"/>
                    </a:lnTo>
                    <a:lnTo>
                      <a:pt x="300" y="656"/>
                    </a:lnTo>
                    <a:lnTo>
                      <a:pt x="328" y="585"/>
                    </a:lnTo>
                    <a:lnTo>
                      <a:pt x="293" y="518"/>
                    </a:lnTo>
                    <a:lnTo>
                      <a:pt x="331" y="480"/>
                    </a:lnTo>
                    <a:lnTo>
                      <a:pt x="331" y="387"/>
                    </a:lnTo>
                    <a:lnTo>
                      <a:pt x="429" y="308"/>
                    </a:lnTo>
                    <a:lnTo>
                      <a:pt x="439" y="188"/>
                    </a:lnTo>
                    <a:lnTo>
                      <a:pt x="376" y="59"/>
                    </a:lnTo>
                    <a:lnTo>
                      <a:pt x="251" y="0"/>
                    </a:lnTo>
                    <a:lnTo>
                      <a:pt x="112" y="38"/>
                    </a:lnTo>
                    <a:lnTo>
                      <a:pt x="31" y="115"/>
                    </a:lnTo>
                    <a:lnTo>
                      <a:pt x="0" y="234"/>
                    </a:lnTo>
                    <a:lnTo>
                      <a:pt x="4" y="304"/>
                    </a:lnTo>
                    <a:lnTo>
                      <a:pt x="147" y="296"/>
                    </a:lnTo>
                    <a:lnTo>
                      <a:pt x="150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595680" y="4331880"/>
                <a:ext cx="1465200" cy="111456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41"/>
                    </a:moveTo>
                    <a:lnTo>
                      <a:pt x="57" y="230"/>
                    </a:lnTo>
                    <a:lnTo>
                      <a:pt x="89" y="241"/>
                    </a:lnTo>
                    <a:lnTo>
                      <a:pt x="87" y="175"/>
                    </a:lnTo>
                    <a:lnTo>
                      <a:pt x="111" y="101"/>
                    </a:lnTo>
                    <a:lnTo>
                      <a:pt x="206" y="74"/>
                    </a:lnTo>
                    <a:lnTo>
                      <a:pt x="251" y="105"/>
                    </a:lnTo>
                    <a:lnTo>
                      <a:pt x="299" y="153"/>
                    </a:lnTo>
                    <a:lnTo>
                      <a:pt x="285" y="237"/>
                    </a:lnTo>
                    <a:lnTo>
                      <a:pt x="195" y="276"/>
                    </a:lnTo>
                    <a:lnTo>
                      <a:pt x="171" y="335"/>
                    </a:lnTo>
                    <a:lnTo>
                      <a:pt x="178" y="395"/>
                    </a:lnTo>
                    <a:lnTo>
                      <a:pt x="166" y="477"/>
                    </a:lnTo>
                    <a:lnTo>
                      <a:pt x="256" y="477"/>
                    </a:lnTo>
                    <a:lnTo>
                      <a:pt x="268" y="416"/>
                    </a:lnTo>
                    <a:lnTo>
                      <a:pt x="261" y="345"/>
                    </a:lnTo>
                    <a:lnTo>
                      <a:pt x="316" y="307"/>
                    </a:lnTo>
                    <a:lnTo>
                      <a:pt x="358" y="287"/>
                    </a:lnTo>
                    <a:lnTo>
                      <a:pt x="390" y="196"/>
                    </a:lnTo>
                    <a:lnTo>
                      <a:pt x="361" y="98"/>
                    </a:lnTo>
                    <a:lnTo>
                      <a:pt x="264" y="0"/>
                    </a:lnTo>
                    <a:lnTo>
                      <a:pt x="146" y="8"/>
                    </a:lnTo>
                    <a:lnTo>
                      <a:pt x="51" y="67"/>
                    </a:lnTo>
                    <a:lnTo>
                      <a:pt x="10" y="140"/>
                    </a:ln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29200" y="5530680"/>
                <a:ext cx="473040" cy="252360"/>
              </a:xfrm>
              <a:custGeom>
                <a:avLst/>
                <a:gdLst/>
                <a:ahLst/>
                <a:rect l="l" t="t" r="r" b="b"/>
                <a:pathLst>
                  <a:path w="126" h="109">
                    <a:moveTo>
                      <a:pt x="45" y="0"/>
                    </a:moveTo>
                    <a:lnTo>
                      <a:pt x="9" y="20"/>
                    </a:lnTo>
                    <a:lnTo>
                      <a:pt x="0" y="73"/>
                    </a:lnTo>
                    <a:lnTo>
                      <a:pt x="28" y="109"/>
                    </a:lnTo>
                    <a:lnTo>
                      <a:pt x="98" y="109"/>
                    </a:lnTo>
                    <a:lnTo>
                      <a:pt x="126" y="66"/>
                    </a:lnTo>
                    <a:lnTo>
                      <a:pt x="102" y="1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3581280" y="5715000"/>
              <a:ext cx="1600200" cy="60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418FA-796A-414D-94E2-F5E7526322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Think Deeply Using Thematic Questions</a:t>
            </a:r>
            <a:endParaRPr b="1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81080" y="1295280"/>
            <a:ext cx="3543480" cy="2380680"/>
            <a:chOff x="181080" y="1295280"/>
            <a:chExt cx="3543480" cy="2380680"/>
          </a:xfrm>
        </p:grpSpPr>
        <p:sp>
          <p:nvSpPr>
            <p:cNvPr id="408" name=""/>
            <p:cNvSpPr txBox="1"/>
            <p:nvPr/>
          </p:nvSpPr>
          <p:spPr>
            <a:xfrm>
              <a:off x="184320" y="1295280"/>
              <a:ext cx="3276360" cy="874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cccc"/>
                      </a:gs>
                      <a:gs pos="100000">
                        <a:srgbClr val="ccecff"/>
                      </a:gs>
                    </a:gsLst>
                    <a:lin ang="5400000"/>
                  </a:gradFill>
                  <a:latin typeface="Impact"/>
                </a:rPr>
                <a:t>Event or Situa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cce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1080" y="2362320"/>
              <a:ext cx="3543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o was involve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caused i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happened/develope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was the resul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181480" y="1295280"/>
            <a:ext cx="3276720" cy="2380680"/>
            <a:chOff x="5181480" y="1295280"/>
            <a:chExt cx="3276720" cy="2380680"/>
          </a:xfrm>
        </p:grpSpPr>
        <p:sp>
          <p:nvSpPr>
            <p:cNvPr id="411" name=""/>
            <p:cNvSpPr txBox="1"/>
            <p:nvPr/>
          </p:nvSpPr>
          <p:spPr>
            <a:xfrm>
              <a:off x="5181480" y="1295280"/>
              <a:ext cx="3276720" cy="874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ff"/>
                      </a:gs>
                      <a:gs pos="100000">
                        <a:srgbClr val="b2b2b2"/>
                      </a:gs>
                    </a:gsLst>
                    <a:lin ang="5400000"/>
                  </a:gradFill>
                  <a:latin typeface="Impact"/>
                </a:rPr>
                <a:t>Concep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ff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07000" y="2362320"/>
              <a:ext cx="2578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is i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ere is it foun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ow did it develop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is its impac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80360" y="3962520"/>
            <a:ext cx="4415040" cy="2456640"/>
            <a:chOff x="180360" y="3962520"/>
            <a:chExt cx="4415040" cy="2456640"/>
          </a:xfrm>
        </p:grpSpPr>
        <p:sp>
          <p:nvSpPr>
            <p:cNvPr id="414" name=""/>
            <p:cNvSpPr txBox="1"/>
            <p:nvPr/>
          </p:nvSpPr>
          <p:spPr>
            <a:xfrm>
              <a:off x="184320" y="3962520"/>
              <a:ext cx="3276360" cy="87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ccff"/>
                      </a:gs>
                      <a:gs pos="100000">
                        <a:srgbClr val="ff00ff"/>
                      </a:gs>
                    </a:gsLst>
                    <a:lin ang="5400000"/>
                  </a:gradFill>
                  <a:latin typeface="Impact"/>
                </a:rPr>
                <a:t>Issu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f00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0360" y="5105520"/>
              <a:ext cx="4415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are the issues/key idea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y is this an issu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was/might be its impact on…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ow does this relate to…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100840" y="3809880"/>
            <a:ext cx="4079880" cy="2609280"/>
            <a:chOff x="5100840" y="3809880"/>
            <a:chExt cx="4079880" cy="2609280"/>
          </a:xfrm>
        </p:grpSpPr>
        <p:sp>
          <p:nvSpPr>
            <p:cNvPr id="417" name=""/>
            <p:cNvSpPr txBox="1"/>
            <p:nvPr/>
          </p:nvSpPr>
          <p:spPr>
            <a:xfrm>
              <a:off x="5181480" y="3809880"/>
              <a:ext cx="3276720" cy="874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3300"/>
                      </a:gs>
                    </a:gsLst>
                    <a:lin ang="5400000"/>
                  </a:gradFill>
                  <a:latin typeface="Impact"/>
                </a:rPr>
                <a:t>Pers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00840" y="5105520"/>
              <a:ext cx="4079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o/what inspired the person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is his/her backgroun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developed his/her interes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6040" indent="-1760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at was his/her significanc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733920" y="2743200"/>
            <a:ext cx="1523880" cy="15238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49F96-66A0-4F8E-BFC9-A64A8BA858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Think Deeply Using Thematic Questions</a:t>
            </a:r>
            <a:endParaRPr b="1" lang="en-US" sz="32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648320" y="1905120"/>
            <a:ext cx="1676160" cy="3581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1447920"/>
            <a:ext cx="8021520" cy="747720"/>
            <a:chOff x="457200" y="1447920"/>
            <a:chExt cx="8021520" cy="747720"/>
          </a:xfrm>
        </p:grpSpPr>
        <p:sp>
          <p:nvSpPr>
            <p:cNvPr id="423" name=""/>
            <p:cNvSpPr/>
            <p:nvPr/>
          </p:nvSpPr>
          <p:spPr>
            <a:xfrm>
              <a:off x="6310800" y="1523880"/>
              <a:ext cx="216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6040" indent="-17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+ WIL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4" name="Hrglass1" descr=""/>
            <p:cNvPicPr/>
            <p:nvPr/>
          </p:nvPicPr>
          <p:blipFill>
            <a:blip r:embed="rId1"/>
            <a:stretch/>
          </p:blipFill>
          <p:spPr>
            <a:xfrm>
              <a:off x="457200" y="1447920"/>
              <a:ext cx="39528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 txBox="1"/>
            <p:nvPr/>
          </p:nvSpPr>
          <p:spPr>
            <a:xfrm>
              <a:off x="1628640" y="1523880"/>
              <a:ext cx="23050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Prediction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28600" y="2743200"/>
            <a:ext cx="8860320" cy="723960"/>
            <a:chOff x="228600" y="2743200"/>
            <a:chExt cx="8860320" cy="723960"/>
          </a:xfrm>
        </p:grpSpPr>
        <p:pic>
          <p:nvPicPr>
            <p:cNvPr id="427" name="dice" descr=""/>
            <p:cNvPicPr/>
            <p:nvPr/>
          </p:nvPicPr>
          <p:blipFill>
            <a:blip r:embed="rId2"/>
            <a:stretch/>
          </p:blipFill>
          <p:spPr>
            <a:xfrm>
              <a:off x="228600" y="2817720"/>
              <a:ext cx="977760" cy="4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 txBox="1"/>
            <p:nvPr/>
          </p:nvSpPr>
          <p:spPr>
            <a:xfrm>
              <a:off x="1628640" y="2819520"/>
              <a:ext cx="25624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Probability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09720" y="2743200"/>
              <a:ext cx="277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6040" indent="-17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+ WOUL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380880" y="3710160"/>
            <a:ext cx="7972560" cy="976320"/>
            <a:chOff x="380880" y="3710160"/>
            <a:chExt cx="7972560" cy="976320"/>
          </a:xfrm>
        </p:grpSpPr>
        <p:pic>
          <p:nvPicPr>
            <p:cNvPr id="431" name="light" descr=""/>
            <p:cNvPicPr/>
            <p:nvPr/>
          </p:nvPicPr>
          <p:blipFill>
            <a:blip r:embed="rId3"/>
            <a:stretch/>
          </p:blipFill>
          <p:spPr>
            <a:xfrm>
              <a:off x="380880" y="3710160"/>
              <a:ext cx="479520" cy="8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 txBox="1"/>
            <p:nvPr/>
          </p:nvSpPr>
          <p:spPr>
            <a:xfrm>
              <a:off x="1628640" y="4038480"/>
              <a:ext cx="256248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Possibility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309000" y="3962520"/>
              <a:ext cx="204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6040" indent="-17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+ CA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166680" y="5081760"/>
            <a:ext cx="8668080" cy="861840"/>
            <a:chOff x="166680" y="5081760"/>
            <a:chExt cx="8668080" cy="861840"/>
          </a:xfrm>
        </p:grpSpPr>
        <p:pic>
          <p:nvPicPr>
            <p:cNvPr id="435" name="BS01316_" descr=""/>
            <p:cNvPicPr/>
            <p:nvPr/>
          </p:nvPicPr>
          <p:blipFill>
            <a:blip r:embed="rId4"/>
            <a:stretch/>
          </p:blipFill>
          <p:spPr>
            <a:xfrm>
              <a:off x="166680" y="5081760"/>
              <a:ext cx="825480" cy="8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 txBox="1"/>
            <p:nvPr/>
          </p:nvSpPr>
          <p:spPr>
            <a:xfrm>
              <a:off x="1628640" y="5181480"/>
              <a:ext cx="256248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</a:rPr>
                <a:t>Imagining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10080" y="5181480"/>
              <a:ext cx="25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6040" indent="-176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+ MIGH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B173C-935A-4EDE-81F1-F41D04E912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Focus Statements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" y="121932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 am researc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cause I want to find ou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 order to help my audience underst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C0CBA-A04B-498A-9080-007B63F0B9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Stage 1 Checklist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680" y="152280"/>
            <a:ext cx="2133720" cy="2001960"/>
            <a:chOff x="6781680" y="152280"/>
            <a:chExt cx="2133720" cy="2001960"/>
          </a:xfrm>
        </p:grpSpPr>
        <p:sp>
          <p:nvSpPr>
            <p:cNvPr id="47" name=""/>
            <p:cNvSpPr/>
            <p:nvPr/>
          </p:nvSpPr>
          <p:spPr>
            <a:xfrm>
              <a:off x="6781680" y="152280"/>
              <a:ext cx="2133720" cy="2001960"/>
            </a:xfrm>
            <a:prstGeom prst="ellipse">
              <a:avLst/>
            </a:prstGeom>
            <a:solidFill>
              <a:srgbClr val="ccecff"/>
            </a:solidFill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978960" y="1487520"/>
              <a:ext cx="6836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dentif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000280" y="1487520"/>
              <a:ext cx="6530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lat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077240" y="770040"/>
              <a:ext cx="1544040" cy="7750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ge 1 Prepar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63560" y="606240"/>
              <a:ext cx="662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50600" y="606240"/>
              <a:ext cx="7617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plo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85800" y="1143000"/>
            <a:ext cx="17683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9960" y="1916280"/>
            <a:ext cx="7940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stand the research proces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ll do I understand the purpose for research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ell do I understand the stages of resear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stand the assign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I have to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final product, the audience, and the due da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ll it be evaluated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are a portfolio that organizes the process and the projec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consider time management, with a research plan and timeli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include my notes, lists of resources, drafts, conferences, and records of my progr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0DB99-C526-4584-A4A8-1FCE2B3C37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Focus Statements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" y="121932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 am researching </a:t>
            </a:r>
            <a:r>
              <a:rPr b="0" i="1" lang="en-US" sz="3600" spc="-1" strike="noStrike">
                <a:solidFill>
                  <a:srgbClr val="3333cc"/>
                </a:solidFill>
                <a:latin typeface="Bradley Hand ITC TT-Bold"/>
                <a:ea typeface="Arial"/>
              </a:rPr>
              <a:t>black h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cause I want to find out </a:t>
            </a:r>
            <a:r>
              <a:rPr b="0" i="1" lang="en-US" sz="3600" spc="-1" strike="noStrike">
                <a:solidFill>
                  <a:srgbClr val="3333cc"/>
                </a:solidFill>
                <a:latin typeface="Bradley Hand ITC TT-Bold"/>
                <a:ea typeface="Times New Roman"/>
              </a:rPr>
              <a:t>what they are, what causes them, and why they exi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,   in order to help my audience understand </a:t>
            </a:r>
            <a:r>
              <a:rPr b="0" i="1" lang="en-US" sz="3600" spc="-1" strike="noStrike">
                <a:solidFill>
                  <a:srgbClr val="3333cc"/>
                </a:solidFill>
                <a:latin typeface="Bradley Hand ITC TT-Bold"/>
                <a:ea typeface="Times New Roman"/>
              </a:rPr>
              <a:t>why their existence is necessary in the univer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B6A2C-2EC1-4CB6-90BE-71E754FE9D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Thinking Deeper about Research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438280" y="1600200"/>
            <a:ext cx="3714840" cy="779760"/>
            <a:chOff x="2438280" y="1600200"/>
            <a:chExt cx="3714840" cy="779760"/>
          </a:xfrm>
        </p:grpSpPr>
        <p:pic>
          <p:nvPicPr>
            <p:cNvPr id="444" name="K" descr=""/>
            <p:cNvPicPr/>
            <p:nvPr/>
          </p:nvPicPr>
          <p:blipFill>
            <a:blip r:embed="rId1"/>
            <a:stretch/>
          </p:blipFill>
          <p:spPr>
            <a:xfrm>
              <a:off x="2438280" y="1600200"/>
              <a:ext cx="91440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3276720" y="1981080"/>
              <a:ext cx="287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LED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581200" y="2362320"/>
            <a:ext cx="5496120" cy="838080"/>
            <a:chOff x="2581200" y="2362320"/>
            <a:chExt cx="5496120" cy="838080"/>
          </a:xfrm>
        </p:grpSpPr>
        <p:sp>
          <p:nvSpPr>
            <p:cNvPr id="447" name=""/>
            <p:cNvSpPr/>
            <p:nvPr/>
          </p:nvSpPr>
          <p:spPr>
            <a:xfrm>
              <a:off x="3276720" y="272736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MPREHEN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8" name="C" descr=""/>
            <p:cNvPicPr/>
            <p:nvPr/>
          </p:nvPicPr>
          <p:blipFill>
            <a:blip r:embed="rId2"/>
            <a:stretch/>
          </p:blipFill>
          <p:spPr>
            <a:xfrm>
              <a:off x="2581200" y="2362320"/>
              <a:ext cx="62712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9" name=""/>
          <p:cNvGrpSpPr/>
          <p:nvPr/>
        </p:nvGrpSpPr>
        <p:grpSpPr>
          <a:xfrm>
            <a:off x="2514600" y="3189240"/>
            <a:ext cx="4572000" cy="699120"/>
            <a:chOff x="2514600" y="3189240"/>
            <a:chExt cx="4572000" cy="699120"/>
          </a:xfrm>
        </p:grpSpPr>
        <p:sp>
          <p:nvSpPr>
            <p:cNvPr id="450" name=""/>
            <p:cNvSpPr/>
            <p:nvPr/>
          </p:nvSpPr>
          <p:spPr>
            <a:xfrm>
              <a:off x="3276720" y="348948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1" name="A" descr=""/>
            <p:cNvPicPr/>
            <p:nvPr/>
          </p:nvPicPr>
          <p:blipFill>
            <a:blip r:embed="rId3"/>
            <a:stretch/>
          </p:blipFill>
          <p:spPr>
            <a:xfrm>
              <a:off x="2514600" y="3189240"/>
              <a:ext cx="762120" cy="68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2" name=""/>
          <p:cNvSpPr/>
          <p:nvPr/>
        </p:nvSpPr>
        <p:spPr>
          <a:xfrm>
            <a:off x="2819160" y="914400"/>
            <a:ext cx="30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dapted Bloom, 195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514600" y="3962520"/>
            <a:ext cx="3638520" cy="703440"/>
            <a:chOff x="2514600" y="3962520"/>
            <a:chExt cx="3638520" cy="703440"/>
          </a:xfrm>
        </p:grpSpPr>
        <p:sp>
          <p:nvSpPr>
            <p:cNvPr id="454" name=""/>
            <p:cNvSpPr/>
            <p:nvPr/>
          </p:nvSpPr>
          <p:spPr>
            <a:xfrm>
              <a:off x="3276720" y="4267080"/>
              <a:ext cx="287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LY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5" name="A" descr=""/>
            <p:cNvPicPr/>
            <p:nvPr/>
          </p:nvPicPr>
          <p:blipFill>
            <a:blip r:embed="rId4"/>
            <a:stretch/>
          </p:blipFill>
          <p:spPr>
            <a:xfrm>
              <a:off x="2514600" y="3962520"/>
              <a:ext cx="76212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6" name=""/>
          <p:cNvGrpSpPr/>
          <p:nvPr/>
        </p:nvGrpSpPr>
        <p:grpSpPr>
          <a:xfrm>
            <a:off x="2476440" y="4802040"/>
            <a:ext cx="3676680" cy="684360"/>
            <a:chOff x="2476440" y="4802040"/>
            <a:chExt cx="3676680" cy="684360"/>
          </a:xfrm>
        </p:grpSpPr>
        <p:sp>
          <p:nvSpPr>
            <p:cNvPr id="457" name=""/>
            <p:cNvSpPr/>
            <p:nvPr/>
          </p:nvSpPr>
          <p:spPr>
            <a:xfrm>
              <a:off x="3276720" y="5029200"/>
              <a:ext cx="287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YNTHE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8" name="S" descr=""/>
            <p:cNvPicPr/>
            <p:nvPr/>
          </p:nvPicPr>
          <p:blipFill>
            <a:blip r:embed="rId5"/>
            <a:stretch/>
          </p:blipFill>
          <p:spPr>
            <a:xfrm>
              <a:off x="2476440" y="4802040"/>
              <a:ext cx="838440" cy="68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9" name=""/>
          <p:cNvGrpSpPr/>
          <p:nvPr/>
        </p:nvGrpSpPr>
        <p:grpSpPr>
          <a:xfrm>
            <a:off x="2514600" y="5562720"/>
            <a:ext cx="3638520" cy="687600"/>
            <a:chOff x="2514600" y="5562720"/>
            <a:chExt cx="3638520" cy="687600"/>
          </a:xfrm>
        </p:grpSpPr>
        <p:sp>
          <p:nvSpPr>
            <p:cNvPr id="460" name=""/>
            <p:cNvSpPr/>
            <p:nvPr/>
          </p:nvSpPr>
          <p:spPr>
            <a:xfrm>
              <a:off x="3276720" y="5851440"/>
              <a:ext cx="287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LU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1" name="E" descr=""/>
            <p:cNvPicPr/>
            <p:nvPr/>
          </p:nvPicPr>
          <p:blipFill>
            <a:blip r:embed="rId6"/>
            <a:stretch/>
          </p:blipFill>
          <p:spPr>
            <a:xfrm>
              <a:off x="2514600" y="5562720"/>
              <a:ext cx="762120" cy="64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9F8DC-5D32-42ED-B7D3-39BBCAC5A4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Thinking Deeper about Research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8080" y="2911320"/>
            <a:ext cx="800100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Arial"/>
              </a:rPr>
              <a:t>Identify and recall inform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e.g., Describe the role of a judge in Ontario court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K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1828800" cy="14302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2438280" y="2057400"/>
            <a:ext cx="28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OWLE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FACE6-526D-4E88-8473-55AE35A918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Thinking Deeper about Research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38080" y="291132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Organize, select, and understand facts and idea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ummar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(e.g.,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Summarize the editorial’s key points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33720" y="20574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MPREHE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C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142704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A0F78-BF19-42B4-ACE7-E37C52ABF2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Thinking Deeper about Research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38080" y="291132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Use facts, rules, and principles in a new situ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s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l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e.g., Construct a diagram of solar energy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0" y="20574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A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1600200" cy="14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A0C1D-DBE2-4BC2-91AC-8F3EC4257D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Thinking Deeper about Research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38080" y="291132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Take information apart to understand i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stingu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(e.g., Compare ingredients in household cleansers.)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0" y="2057400"/>
            <a:ext cx="28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A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1600200" cy="14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752C3-1606-48B9-BBB5-34136A117A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Thinking Deeper about Research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38080" y="291132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Bring ideas together to create new idea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b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arran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onstr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(e.g., Design a model for learning new math skills.)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2057400"/>
            <a:ext cx="28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S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1828800" cy="149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3F744-BA65-4F68-B476-018EE9D04D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Thinking Deeper about Research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38080" y="2911320"/>
            <a:ext cx="800100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Times New Roman"/>
              </a:rPr>
              <a:t>Make judgments and decision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itic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f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ust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orit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226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(e.g., Justify the entrance of Canada into World War II.)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438280" y="2025720"/>
            <a:ext cx="28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AL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E" descr=""/>
          <p:cNvPicPr/>
          <p:nvPr/>
        </p:nvPicPr>
        <p:blipFill>
          <a:blip r:embed="rId1"/>
          <a:stretch/>
        </p:blipFill>
        <p:spPr>
          <a:xfrm>
            <a:off x="762120" y="1208160"/>
            <a:ext cx="1600200" cy="136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6EFC6-0B74-4FC5-A904-6000A2AD49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Scoring Chart: Stage 1 Research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80880" y="1066680"/>
            <a:ext cx="8534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 the purpose of my assignment and how it will be evalu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8000"/>
                </a:solidFill>
                <a:latin typeface="Arial"/>
                <a:ea typeface="Arial"/>
              </a:rPr>
              <a:t>I understand the due date(s), format, and length of my assig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I have explored and chosen a topic I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8000"/>
                </a:solidFill>
                <a:latin typeface="Arial"/>
                <a:ea typeface="Arial"/>
              </a:rPr>
              <a:t>I have shared my ideas and the reasons for my choice of topic with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I have asked research questions that demonstrate deep thin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8000"/>
                </a:solidFill>
                <a:latin typeface="Arial"/>
                <a:ea typeface="Arial"/>
              </a:rPr>
              <a:t>I have begun to plan my work in a timeline or agen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I have begun to find materials for my resea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8000"/>
                </a:solidFill>
                <a:latin typeface="Arial"/>
                <a:ea typeface="Arial"/>
              </a:rPr>
              <a:t>I have formed a tentative focus for my resea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I have related prior knowledge to my resea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8000"/>
                </a:solidFill>
                <a:latin typeface="Arial"/>
                <a:ea typeface="Arial"/>
              </a:rPr>
              <a:t>I have begun to organize materials for my resea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FE6F2-9B65-4748-AF5A-C0AB5DC73E4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Stage 1 Checklist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781680" y="152280"/>
            <a:ext cx="2133720" cy="2001960"/>
            <a:chOff x="6781680" y="152280"/>
            <a:chExt cx="2133720" cy="2001960"/>
          </a:xfrm>
        </p:grpSpPr>
        <p:sp>
          <p:nvSpPr>
            <p:cNvPr id="57" name=""/>
            <p:cNvSpPr/>
            <p:nvPr/>
          </p:nvSpPr>
          <p:spPr>
            <a:xfrm>
              <a:off x="6781680" y="152280"/>
              <a:ext cx="2133720" cy="2001960"/>
            </a:xfrm>
            <a:prstGeom prst="ellipse">
              <a:avLst/>
            </a:prstGeom>
            <a:solidFill>
              <a:srgbClr val="ccecff"/>
            </a:solidFill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78960" y="1487520"/>
              <a:ext cx="6836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dentif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00280" y="1487520"/>
              <a:ext cx="6530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lat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077240" y="770040"/>
              <a:ext cx="1544040" cy="7750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ge 1 Prepar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63560" y="606240"/>
              <a:ext cx="662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950600" y="606240"/>
              <a:ext cx="7617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plo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85800" y="1143000"/>
            <a:ext cx="1768320" cy="5097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3640" y="1992240"/>
            <a:ext cx="7940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lore the top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get an overview of my topic by using a variety of resources, including books, videos, experts, the Internet, and community resourc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inst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consider my interes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share ideas with oth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develop my ideas using maps or web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classify ideas to look for patter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I break down the topic to help develop a foc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the possible topics and subtop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topic manageable and meaningfu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A3C4-7C30-4C2B-B222-5A2CC4E41B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Stage 1 Checklist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781680" y="152280"/>
            <a:ext cx="2133720" cy="2001960"/>
            <a:chOff x="6781680" y="152280"/>
            <a:chExt cx="2133720" cy="2001960"/>
          </a:xfrm>
        </p:grpSpPr>
        <p:sp>
          <p:nvSpPr>
            <p:cNvPr id="67" name=""/>
            <p:cNvSpPr/>
            <p:nvPr/>
          </p:nvSpPr>
          <p:spPr>
            <a:xfrm>
              <a:off x="6781680" y="152280"/>
              <a:ext cx="2133720" cy="2001960"/>
            </a:xfrm>
            <a:prstGeom prst="ellipse">
              <a:avLst/>
            </a:prstGeom>
            <a:solidFill>
              <a:srgbClr val="ccecff"/>
            </a:solidFill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78960" y="1487520"/>
              <a:ext cx="6836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dentif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000280" y="1487520"/>
              <a:ext cx="6530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lat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77240" y="770040"/>
              <a:ext cx="1544040" cy="7750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ge 1 Prepar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63560" y="606240"/>
              <a:ext cx="662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50600" y="606240"/>
              <a:ext cx="7617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plo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685800" y="1143000"/>
            <a:ext cx="17683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3640" y="1916280"/>
            <a:ext cx="8016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research ques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I developed thoughtful questions that require research and analys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search strateg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I developed keywords for search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I grouped the search terms togeth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 a focus statem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 state clearly what I am research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68120">
              <a:lnSpc>
                <a:spcPct val="100000"/>
              </a:lnSpc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I understand why this topic is important to my audience and 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F24B1-A931-476D-A538-640FB49C80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Stage 1 Checklist</a:t>
            </a:r>
            <a:endParaRPr b="1" lang="en-US" sz="4000" spc="-1" strike="noStrike">
              <a:solidFill>
                <a:srgbClr val="0099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781680" y="152280"/>
            <a:ext cx="2133720" cy="2001960"/>
            <a:chOff x="6781680" y="152280"/>
            <a:chExt cx="2133720" cy="2001960"/>
          </a:xfrm>
        </p:grpSpPr>
        <p:sp>
          <p:nvSpPr>
            <p:cNvPr id="77" name=""/>
            <p:cNvSpPr/>
            <p:nvPr/>
          </p:nvSpPr>
          <p:spPr>
            <a:xfrm>
              <a:off x="6781680" y="152280"/>
              <a:ext cx="2133720" cy="2001960"/>
            </a:xfrm>
            <a:prstGeom prst="ellipse">
              <a:avLst/>
            </a:prstGeom>
            <a:solidFill>
              <a:srgbClr val="ccecff"/>
            </a:solidFill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78960" y="1487520"/>
              <a:ext cx="6836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dentif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00280" y="1487520"/>
              <a:ext cx="65304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lat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77240" y="770040"/>
              <a:ext cx="1544040" cy="7750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age 1 Preparing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63560" y="606240"/>
              <a:ext cx="66240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fin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50600" y="606240"/>
              <a:ext cx="7617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plo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85800" y="1143000"/>
            <a:ext cx="17683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9960" y="2068560"/>
            <a:ext cx="7788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-N-R 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ed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ources) cha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I wonder about the topi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I know about the topi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I need to find o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ost appropriate resources for this topi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 research topics and pl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I talked to my peers and family about my ideas and  progr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I had a conference with my teacher or teacher-librari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279EB-8722-44CE-BD45-A6AA8F5745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6160" y="152280"/>
            <a:ext cx="62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xploring a Topic: Starting Your Th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j0281206" descr=""/>
          <p:cNvPicPr/>
          <p:nvPr/>
        </p:nvPicPr>
        <p:blipFill>
          <a:blip r:embed="rId1"/>
          <a:stretch/>
        </p:blipFill>
        <p:spPr>
          <a:xfrm>
            <a:off x="4027320" y="2998800"/>
            <a:ext cx="1230480" cy="119700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812520" y="789120"/>
            <a:ext cx="3454200" cy="2171520"/>
            <a:chOff x="812520" y="789120"/>
            <a:chExt cx="3454200" cy="2171520"/>
          </a:xfrm>
        </p:grpSpPr>
        <p:sp>
          <p:nvSpPr>
            <p:cNvPr id="88" name=""/>
            <p:cNvSpPr/>
            <p:nvPr/>
          </p:nvSpPr>
          <p:spPr>
            <a:xfrm>
              <a:off x="1219320" y="922320"/>
              <a:ext cx="25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 Wonder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812160" y="789120"/>
              <a:ext cx="3454200" cy="2171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8080" y="2160720"/>
              <a:ext cx="332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at have I always wondered about this topic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978440" y="789120"/>
            <a:ext cx="3454200" cy="2171520"/>
            <a:chOff x="4978440" y="789120"/>
            <a:chExt cx="3454200" cy="2171520"/>
          </a:xfrm>
        </p:grpSpPr>
        <p:sp>
          <p:nvSpPr>
            <p:cNvPr id="92" name=""/>
            <p:cNvSpPr/>
            <p:nvPr/>
          </p:nvSpPr>
          <p:spPr>
            <a:xfrm>
              <a:off x="4978440" y="789120"/>
              <a:ext cx="3454200" cy="2171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92840" y="9223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 Ask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34120" y="2160720"/>
              <a:ext cx="294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at questions do I have about this topic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812520" y="4160880"/>
            <a:ext cx="3454200" cy="2171520"/>
            <a:chOff x="812520" y="4160880"/>
            <a:chExt cx="3454200" cy="2171520"/>
          </a:xfrm>
        </p:grpSpPr>
        <p:sp>
          <p:nvSpPr>
            <p:cNvPr id="96" name=""/>
            <p:cNvSpPr/>
            <p:nvPr/>
          </p:nvSpPr>
          <p:spPr>
            <a:xfrm>
              <a:off x="1422360" y="4294080"/>
              <a:ext cx="22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 Relate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811800" y="4160880"/>
              <a:ext cx="3454200" cy="2171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8080" y="5532480"/>
              <a:ext cx="335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w does this topic relate to my life now and in the future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978440" y="4160880"/>
            <a:ext cx="3454200" cy="2171520"/>
            <a:chOff x="4978440" y="4160880"/>
            <a:chExt cx="3454200" cy="2171520"/>
          </a:xfrm>
        </p:grpSpPr>
        <p:sp>
          <p:nvSpPr>
            <p:cNvPr id="100" name=""/>
            <p:cNvSpPr/>
            <p:nvPr/>
          </p:nvSpPr>
          <p:spPr>
            <a:xfrm>
              <a:off x="5587920" y="4294080"/>
              <a:ext cx="22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 Begin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79960" y="4648320"/>
              <a:ext cx="23875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plore my textboo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ad a general encycloped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rowse magazi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iew a film or vid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rf the Inter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sk a friend or expe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978440" y="4160880"/>
              <a:ext cx="3454200" cy="21715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05520" y="560700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w do I begin find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re idea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28C93-7D46-4501-B989-CBDE028385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581280" y="2895480"/>
            <a:ext cx="1981440" cy="1143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30322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505320" y="609480"/>
            <a:ext cx="1981080" cy="2285640"/>
            <a:chOff x="3505320" y="609480"/>
            <a:chExt cx="1981080" cy="2285640"/>
          </a:xfrm>
        </p:grpSpPr>
        <p:grpSp>
          <p:nvGrpSpPr>
            <p:cNvPr id="107" name=""/>
            <p:cNvGrpSpPr/>
            <p:nvPr/>
          </p:nvGrpSpPr>
          <p:grpSpPr>
            <a:xfrm>
              <a:off x="3505320" y="609480"/>
              <a:ext cx="1981080" cy="2285640"/>
              <a:chOff x="3505320" y="609480"/>
              <a:chExt cx="1981080" cy="2285640"/>
            </a:xfrm>
          </p:grpSpPr>
          <p:sp>
            <p:nvSpPr>
              <p:cNvPr id="108" name=""/>
              <p:cNvSpPr/>
              <p:nvPr/>
            </p:nvSpPr>
            <p:spPr>
              <a:xfrm>
                <a:off x="3505320" y="609480"/>
                <a:ext cx="1981080" cy="114300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9" name=""/>
              <p:cNvCxnSpPr>
                <a:stCxn id="104" idx="0"/>
                <a:endCxn id="108" idx="4"/>
              </p:cNvCxnSpPr>
              <p:nvPr/>
            </p:nvCxnSpPr>
            <p:spPr>
              <a:xfrm flipH="1" flipV="1">
                <a:off x="4495680" y="1751760"/>
                <a:ext cx="76680" cy="11437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10" name=""/>
            <p:cNvSpPr/>
            <p:nvPr/>
          </p:nvSpPr>
          <p:spPr>
            <a:xfrm>
              <a:off x="3809880" y="838080"/>
              <a:ext cx="1311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gal Righ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271840" y="1219320"/>
            <a:ext cx="2805480" cy="1842480"/>
            <a:chOff x="5271840" y="1219320"/>
            <a:chExt cx="2805480" cy="1842480"/>
          </a:xfrm>
        </p:grpSpPr>
        <p:grpSp>
          <p:nvGrpSpPr>
            <p:cNvPr id="112" name=""/>
            <p:cNvGrpSpPr/>
            <p:nvPr/>
          </p:nvGrpSpPr>
          <p:grpSpPr>
            <a:xfrm>
              <a:off x="5271840" y="1219320"/>
              <a:ext cx="2805480" cy="1842480"/>
              <a:chOff x="5271840" y="1219320"/>
              <a:chExt cx="2805480" cy="1842480"/>
            </a:xfrm>
          </p:grpSpPr>
          <p:sp>
            <p:nvSpPr>
              <p:cNvPr id="113" name=""/>
              <p:cNvSpPr/>
              <p:nvPr/>
            </p:nvSpPr>
            <p:spPr>
              <a:xfrm>
                <a:off x="6095880" y="1219320"/>
                <a:ext cx="1981440" cy="114300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4" name=""/>
              <p:cNvCxnSpPr>
                <a:stCxn id="104" idx="7"/>
                <a:endCxn id="113" idx="3"/>
              </p:cNvCxnSpPr>
              <p:nvPr/>
            </p:nvCxnSpPr>
            <p:spPr>
              <a:xfrm flipV="1">
                <a:off x="5271840" y="2194920"/>
                <a:ext cx="1114920" cy="8672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15" name=""/>
            <p:cNvSpPr/>
            <p:nvPr/>
          </p:nvSpPr>
          <p:spPr>
            <a:xfrm>
              <a:off x="6172200" y="158436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mploy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1219320"/>
            <a:ext cx="2880720" cy="1842480"/>
            <a:chOff x="990720" y="1219320"/>
            <a:chExt cx="2880720" cy="1842480"/>
          </a:xfrm>
        </p:grpSpPr>
        <p:grpSp>
          <p:nvGrpSpPr>
            <p:cNvPr id="117" name=""/>
            <p:cNvGrpSpPr/>
            <p:nvPr/>
          </p:nvGrpSpPr>
          <p:grpSpPr>
            <a:xfrm>
              <a:off x="990720" y="1219320"/>
              <a:ext cx="2880720" cy="1842480"/>
              <a:chOff x="990720" y="1219320"/>
              <a:chExt cx="2880720" cy="1842480"/>
            </a:xfrm>
          </p:grpSpPr>
          <p:sp>
            <p:nvSpPr>
              <p:cNvPr id="118" name=""/>
              <p:cNvSpPr/>
              <p:nvPr/>
            </p:nvSpPr>
            <p:spPr>
              <a:xfrm>
                <a:off x="990720" y="1219320"/>
                <a:ext cx="1981080" cy="114300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9" name=""/>
              <p:cNvCxnSpPr>
                <a:stCxn id="104" idx="1"/>
                <a:endCxn id="118" idx="5"/>
              </p:cNvCxnSpPr>
              <p:nvPr/>
            </p:nvCxnSpPr>
            <p:spPr>
              <a:xfrm flipH="1" flipV="1">
                <a:off x="2680560" y="2194920"/>
                <a:ext cx="1191240" cy="8672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20" name=""/>
            <p:cNvSpPr/>
            <p:nvPr/>
          </p:nvSpPr>
          <p:spPr>
            <a:xfrm>
              <a:off x="1219320" y="1279440"/>
              <a:ext cx="1463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ar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8600" y="2743200"/>
            <a:ext cx="3352680" cy="1143000"/>
            <a:chOff x="228600" y="2743200"/>
            <a:chExt cx="3352680" cy="1143000"/>
          </a:xfrm>
        </p:grpSpPr>
        <p:grpSp>
          <p:nvGrpSpPr>
            <p:cNvPr id="122" name=""/>
            <p:cNvGrpSpPr/>
            <p:nvPr/>
          </p:nvGrpSpPr>
          <p:grpSpPr>
            <a:xfrm>
              <a:off x="228600" y="2743200"/>
              <a:ext cx="3352680" cy="1143000"/>
              <a:chOff x="228600" y="2743200"/>
              <a:chExt cx="3352680" cy="1143000"/>
            </a:xfrm>
          </p:grpSpPr>
          <p:sp>
            <p:nvSpPr>
              <p:cNvPr id="123" name=""/>
              <p:cNvSpPr/>
              <p:nvPr/>
            </p:nvSpPr>
            <p:spPr>
              <a:xfrm>
                <a:off x="228600" y="2743200"/>
                <a:ext cx="1981080" cy="114300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4" name=""/>
              <p:cNvCxnSpPr>
                <a:stCxn id="104" idx="2"/>
                <a:endCxn id="123" idx="6"/>
              </p:cNvCxnSpPr>
              <p:nvPr/>
            </p:nvCxnSpPr>
            <p:spPr>
              <a:xfrm flipH="1" flipV="1">
                <a:off x="2209320" y="3314160"/>
                <a:ext cx="1372320" cy="1530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25" name=""/>
            <p:cNvSpPr/>
            <p:nvPr/>
          </p:nvSpPr>
          <p:spPr>
            <a:xfrm>
              <a:off x="533520" y="2971800"/>
              <a:ext cx="1311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ealth 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09480" y="3871800"/>
            <a:ext cx="3261960" cy="1766880"/>
            <a:chOff x="609480" y="3871800"/>
            <a:chExt cx="3261960" cy="1766880"/>
          </a:xfrm>
        </p:grpSpPr>
        <p:grpSp>
          <p:nvGrpSpPr>
            <p:cNvPr id="127" name=""/>
            <p:cNvGrpSpPr/>
            <p:nvPr/>
          </p:nvGrpSpPr>
          <p:grpSpPr>
            <a:xfrm>
              <a:off x="609480" y="3871800"/>
              <a:ext cx="3261960" cy="1766880"/>
              <a:chOff x="609480" y="3871800"/>
              <a:chExt cx="3261960" cy="1766880"/>
            </a:xfrm>
          </p:grpSpPr>
          <p:sp>
            <p:nvSpPr>
              <p:cNvPr id="128" name=""/>
              <p:cNvSpPr/>
              <p:nvPr/>
            </p:nvSpPr>
            <p:spPr>
              <a:xfrm>
                <a:off x="609480" y="4495680"/>
                <a:ext cx="1981440" cy="114300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9" name=""/>
              <p:cNvCxnSpPr>
                <a:stCxn id="104" idx="3"/>
                <a:endCxn id="128" idx="7"/>
              </p:cNvCxnSpPr>
              <p:nvPr/>
            </p:nvCxnSpPr>
            <p:spPr>
              <a:xfrm flipH="1">
                <a:off x="2299680" y="3871800"/>
                <a:ext cx="1572120" cy="7912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30" name=""/>
            <p:cNvSpPr/>
            <p:nvPr/>
          </p:nvSpPr>
          <p:spPr>
            <a:xfrm>
              <a:off x="914400" y="4876920"/>
              <a:ext cx="131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u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200400" y="4038120"/>
            <a:ext cx="1981080" cy="2362680"/>
            <a:chOff x="3200400" y="4038120"/>
            <a:chExt cx="1981080" cy="2362680"/>
          </a:xfrm>
        </p:grpSpPr>
        <p:grpSp>
          <p:nvGrpSpPr>
            <p:cNvPr id="132" name=""/>
            <p:cNvGrpSpPr/>
            <p:nvPr/>
          </p:nvGrpSpPr>
          <p:grpSpPr>
            <a:xfrm>
              <a:off x="3200400" y="4038120"/>
              <a:ext cx="1981080" cy="2362680"/>
              <a:chOff x="3200400" y="4038120"/>
              <a:chExt cx="1981080" cy="2362680"/>
            </a:xfrm>
          </p:grpSpPr>
          <p:sp>
            <p:nvSpPr>
              <p:cNvPr id="133" name=""/>
              <p:cNvSpPr/>
              <p:nvPr/>
            </p:nvSpPr>
            <p:spPr>
              <a:xfrm>
                <a:off x="3200400" y="5257800"/>
                <a:ext cx="1981080" cy="114300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4" name=""/>
              <p:cNvCxnSpPr>
                <a:stCxn id="104" idx="4"/>
                <a:endCxn id="133" idx="0"/>
              </p:cNvCxnSpPr>
              <p:nvPr/>
            </p:nvCxnSpPr>
            <p:spPr>
              <a:xfrm flipH="1">
                <a:off x="4190760" y="4038120"/>
                <a:ext cx="381600" cy="12200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35" name=""/>
            <p:cNvSpPr/>
            <p:nvPr/>
          </p:nvSpPr>
          <p:spPr>
            <a:xfrm>
              <a:off x="3352680" y="56386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tize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271840" y="3871800"/>
            <a:ext cx="2348280" cy="1766880"/>
            <a:chOff x="5271840" y="3871800"/>
            <a:chExt cx="2348280" cy="1766880"/>
          </a:xfrm>
        </p:grpSpPr>
        <p:grpSp>
          <p:nvGrpSpPr>
            <p:cNvPr id="137" name=""/>
            <p:cNvGrpSpPr/>
            <p:nvPr/>
          </p:nvGrpSpPr>
          <p:grpSpPr>
            <a:xfrm>
              <a:off x="5271840" y="3871800"/>
              <a:ext cx="2348280" cy="1766880"/>
              <a:chOff x="5271840" y="3871800"/>
              <a:chExt cx="2348280" cy="1766880"/>
            </a:xfrm>
          </p:grpSpPr>
          <p:sp>
            <p:nvSpPr>
              <p:cNvPr id="138" name=""/>
              <p:cNvSpPr/>
              <p:nvPr/>
            </p:nvSpPr>
            <p:spPr>
              <a:xfrm>
                <a:off x="5638680" y="4495680"/>
                <a:ext cx="1981440" cy="114300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9" name=""/>
              <p:cNvCxnSpPr>
                <a:stCxn id="104" idx="5"/>
                <a:endCxn id="138" idx="1"/>
              </p:cNvCxnSpPr>
              <p:nvPr/>
            </p:nvCxnSpPr>
            <p:spPr>
              <a:xfrm>
                <a:off x="5271840" y="3871800"/>
                <a:ext cx="657720" cy="7912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40" name=""/>
            <p:cNvSpPr/>
            <p:nvPr/>
          </p:nvSpPr>
          <p:spPr>
            <a:xfrm>
              <a:off x="5775480" y="4724280"/>
              <a:ext cx="1692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mmunity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562720" y="2971800"/>
            <a:ext cx="3276360" cy="1143000"/>
            <a:chOff x="5562720" y="2971800"/>
            <a:chExt cx="3276360" cy="1143000"/>
          </a:xfrm>
        </p:grpSpPr>
        <p:grpSp>
          <p:nvGrpSpPr>
            <p:cNvPr id="142" name=""/>
            <p:cNvGrpSpPr/>
            <p:nvPr/>
          </p:nvGrpSpPr>
          <p:grpSpPr>
            <a:xfrm>
              <a:off x="5562720" y="2971800"/>
              <a:ext cx="3276360" cy="1143000"/>
              <a:chOff x="5562720" y="2971800"/>
              <a:chExt cx="3276360" cy="1143000"/>
            </a:xfrm>
          </p:grpSpPr>
          <p:sp>
            <p:nvSpPr>
              <p:cNvPr id="143" name=""/>
              <p:cNvSpPr/>
              <p:nvPr/>
            </p:nvSpPr>
            <p:spPr>
              <a:xfrm>
                <a:off x="6858000" y="2971800"/>
                <a:ext cx="1981080" cy="114300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44" name=""/>
              <p:cNvCxnSpPr>
                <a:stCxn id="104" idx="6"/>
                <a:endCxn id="143" idx="2"/>
              </p:cNvCxnSpPr>
              <p:nvPr/>
            </p:nvCxnSpPr>
            <p:spPr>
              <a:xfrm>
                <a:off x="5562720" y="3467160"/>
                <a:ext cx="1296000" cy="7668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45" name=""/>
            <p:cNvSpPr/>
            <p:nvPr/>
          </p:nvSpPr>
          <p:spPr>
            <a:xfrm>
              <a:off x="7162920" y="3124080"/>
              <a:ext cx="1311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cial 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189160" y="-49320"/>
            <a:ext cx="51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trategy 1: Brainst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A4BB5-47E2-4FB6-B07B-66993DC09F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581280" y="2895480"/>
            <a:ext cx="198144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609480"/>
            <a:ext cx="198108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5257800"/>
            <a:ext cx="198108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1219320"/>
            <a:ext cx="198144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0" y="2971800"/>
            <a:ext cx="198108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38680" y="4495680"/>
            <a:ext cx="198144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219320"/>
            <a:ext cx="198108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2743200"/>
            <a:ext cx="198108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495680"/>
            <a:ext cx="198144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7" idx="1"/>
            <a:endCxn id="153" idx="5"/>
          </p:cNvCxnSpPr>
          <p:nvPr/>
        </p:nvCxnSpPr>
        <p:spPr>
          <a:xfrm flipH="1" flipV="1">
            <a:off x="2680560" y="2194920"/>
            <a:ext cx="1191240" cy="867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47" idx="2"/>
            <a:endCxn id="154" idx="6"/>
          </p:cNvCxnSpPr>
          <p:nvPr/>
        </p:nvCxnSpPr>
        <p:spPr>
          <a:xfrm flipH="1" flipV="1">
            <a:off x="2209320" y="3314160"/>
            <a:ext cx="1372320" cy="153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7" idx="0"/>
            <a:endCxn id="148" idx="4"/>
          </p:cNvCxnSpPr>
          <p:nvPr/>
        </p:nvCxnSpPr>
        <p:spPr>
          <a:xfrm flipH="1" flipV="1">
            <a:off x="4495680" y="1751760"/>
            <a:ext cx="76680" cy="114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7" idx="7"/>
            <a:endCxn id="150" idx="3"/>
          </p:cNvCxnSpPr>
          <p:nvPr/>
        </p:nvCxnSpPr>
        <p:spPr>
          <a:xfrm flipV="1">
            <a:off x="5271840" y="2194920"/>
            <a:ext cx="1114920" cy="867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7" idx="3"/>
            <a:endCxn id="155" idx="7"/>
          </p:cNvCxnSpPr>
          <p:nvPr/>
        </p:nvCxnSpPr>
        <p:spPr>
          <a:xfrm flipH="1">
            <a:off x="2299680" y="3871800"/>
            <a:ext cx="1572120" cy="791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7" idx="4"/>
            <a:endCxn id="149" idx="0"/>
          </p:cNvCxnSpPr>
          <p:nvPr/>
        </p:nvCxnSpPr>
        <p:spPr>
          <a:xfrm flipH="1">
            <a:off x="4190760" y="4038120"/>
            <a:ext cx="38160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47" idx="6"/>
            <a:endCxn id="151" idx="2"/>
          </p:cNvCxnSpPr>
          <p:nvPr/>
        </p:nvCxnSpPr>
        <p:spPr>
          <a:xfrm>
            <a:off x="5562720" y="3467160"/>
            <a:ext cx="129600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47" idx="5"/>
            <a:endCxn id="152" idx="1"/>
          </p:cNvCxnSpPr>
          <p:nvPr/>
        </p:nvCxnSpPr>
        <p:spPr>
          <a:xfrm>
            <a:off x="5271840" y="3871800"/>
            <a:ext cx="657720" cy="791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2189160" y="0"/>
            <a:ext cx="51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trategy 1: Brainst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361B8-799A-43D3-B513-5D704FEBA9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76720" y="1676520"/>
            <a:ext cx="2438280" cy="1447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5880" y="167652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160020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INK BROADLY             – Generaliz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1676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PEOPLE, PLACES,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472428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NARROW 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specif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581976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SYNONYMS      – Find other ways to say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53240" y="4748040"/>
            <a:ext cx="329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ABOUT CONNE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e to other subjects, discipli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9720" y="220968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lthy L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26960" y="152280"/>
            <a:ext cx="4068720" cy="1509480"/>
            <a:chOff x="426960" y="152280"/>
            <a:chExt cx="4068720" cy="1509480"/>
          </a:xfrm>
        </p:grpSpPr>
        <p:sp>
          <p:nvSpPr>
            <p:cNvPr id="174" name=""/>
            <p:cNvSpPr/>
            <p:nvPr/>
          </p:nvSpPr>
          <p:spPr>
            <a:xfrm>
              <a:off x="426960" y="152280"/>
              <a:ext cx="2438640" cy="14479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5" name=""/>
            <p:cNvCxnSpPr>
              <a:stCxn id="165" idx="0"/>
              <a:endCxn id="174" idx="3"/>
            </p:cNvCxnSpPr>
            <p:nvPr/>
          </p:nvCxnSpPr>
          <p:spPr>
            <a:xfrm flipH="1" flipV="1">
              <a:off x="2865240" y="875520"/>
              <a:ext cx="1630800" cy="78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533880" y="609480"/>
              <a:ext cx="23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d and Bo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03280" y="2400480"/>
            <a:ext cx="2758680" cy="2323800"/>
            <a:chOff x="503280" y="2400480"/>
            <a:chExt cx="2758680" cy="2323800"/>
          </a:xfrm>
        </p:grpSpPr>
        <p:sp>
          <p:nvSpPr>
            <p:cNvPr id="178" name=""/>
            <p:cNvSpPr/>
            <p:nvPr/>
          </p:nvSpPr>
          <p:spPr>
            <a:xfrm>
              <a:off x="503280" y="3276720"/>
              <a:ext cx="2438280" cy="14475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9" name=""/>
            <p:cNvCxnSpPr>
              <a:stCxn id="165" idx="1"/>
              <a:endCxn id="178" idx="0"/>
            </p:cNvCxnSpPr>
            <p:nvPr/>
          </p:nvCxnSpPr>
          <p:spPr>
            <a:xfrm flipH="1">
              <a:off x="1721880" y="2400480"/>
              <a:ext cx="1540440" cy="87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0" name=""/>
            <p:cNvSpPr/>
            <p:nvPr/>
          </p:nvSpPr>
          <p:spPr>
            <a:xfrm>
              <a:off x="685800" y="35971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ngers of Smok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495320" y="228600"/>
            <a:ext cx="4115160" cy="1447920"/>
            <a:chOff x="4495320" y="228600"/>
            <a:chExt cx="4115160" cy="1447920"/>
          </a:xfrm>
        </p:grpSpPr>
        <p:sp>
          <p:nvSpPr>
            <p:cNvPr id="182" name=""/>
            <p:cNvSpPr/>
            <p:nvPr/>
          </p:nvSpPr>
          <p:spPr>
            <a:xfrm>
              <a:off x="6172200" y="228600"/>
              <a:ext cx="2438280" cy="14479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" name=""/>
            <p:cNvCxnSpPr>
              <a:stCxn id="165" idx="0"/>
              <a:endCxn id="182" idx="1"/>
            </p:cNvCxnSpPr>
            <p:nvPr/>
          </p:nvCxnSpPr>
          <p:spPr>
            <a:xfrm flipV="1">
              <a:off x="4495320" y="951840"/>
              <a:ext cx="1677240" cy="710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4" name=""/>
            <p:cNvSpPr/>
            <p:nvPr/>
          </p:nvSpPr>
          <p:spPr>
            <a:xfrm>
              <a:off x="6324480" y="533520"/>
              <a:ext cx="213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yms and Gymna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729400" y="2400480"/>
            <a:ext cx="2957400" cy="2323800"/>
            <a:chOff x="5729400" y="2400480"/>
            <a:chExt cx="2957400" cy="2323800"/>
          </a:xfrm>
        </p:grpSpPr>
        <p:sp>
          <p:nvSpPr>
            <p:cNvPr id="186" name=""/>
            <p:cNvSpPr/>
            <p:nvPr/>
          </p:nvSpPr>
          <p:spPr>
            <a:xfrm>
              <a:off x="6248520" y="3276720"/>
              <a:ext cx="2438280" cy="144756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7" name=""/>
            <p:cNvCxnSpPr>
              <a:stCxn id="165" idx="3"/>
              <a:endCxn id="186" idx="0"/>
            </p:cNvCxnSpPr>
            <p:nvPr/>
          </p:nvCxnSpPr>
          <p:spPr>
            <a:xfrm>
              <a:off x="5729400" y="2400480"/>
              <a:ext cx="1738800" cy="87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6477120" y="342900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ole of the Arts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r positive liv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276720" y="3138120"/>
            <a:ext cx="2438280" cy="2653200"/>
            <a:chOff x="3276720" y="3138120"/>
            <a:chExt cx="2438280" cy="2653200"/>
          </a:xfrm>
        </p:grpSpPr>
        <p:sp>
          <p:nvSpPr>
            <p:cNvPr id="190" name=""/>
            <p:cNvSpPr/>
            <p:nvPr/>
          </p:nvSpPr>
          <p:spPr>
            <a:xfrm>
              <a:off x="3276720" y="4343400"/>
              <a:ext cx="2438280" cy="14479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1" name=""/>
            <p:cNvCxnSpPr>
              <a:stCxn id="165" idx="2"/>
              <a:endCxn id="190" idx="0"/>
            </p:cNvCxnSpPr>
            <p:nvPr/>
          </p:nvCxnSpPr>
          <p:spPr>
            <a:xfrm>
              <a:off x="4495320" y="3138120"/>
              <a:ext cx="1080" cy="12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2" name=""/>
            <p:cNvSpPr/>
            <p:nvPr/>
          </p:nvSpPr>
          <p:spPr>
            <a:xfrm>
              <a:off x="3635280" y="4495680"/>
              <a:ext cx="1722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tn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ell-be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a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124080" y="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trategy 2  Guided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Toronto District School Board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A49E4-73B2-410A-8D5A-16240684BF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01:57:46Z</dcterms:created>
  <dc:creator>037763</dc:creator>
  <dc:description/>
  <dc:language>en-US</dc:language>
  <cp:lastModifiedBy>TDSB</cp:lastModifiedBy>
  <cp:lastPrinted>2005-11-10T15:56:44Z</cp:lastPrinted>
  <dcterms:modified xsi:type="dcterms:W3CDTF">2007-10-19T13:02:15Z</dcterms:modified>
  <cp:revision>20</cp:revision>
  <dc:subject/>
  <dc:title>The Power of Research</dc:title>
</cp:coreProperties>
</file>